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587-0384-4820-AFC8-5769A248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2FF-2900-4CCF-ADBC-EF3BCB4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2CC73-876B-4264-A685-142374A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7E68F-CD3E-4E8E-8F01-EB603087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C1F84-8C98-4604-94E6-DB5D7C8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6F232-B7D5-48A9-9CA9-650374A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B420A-3DBC-4C5A-9854-CE1C360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60447-DC50-43D1-B882-D9FFFA3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FF1EB-FE83-4A12-BB7C-EBA12AD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0A0F7-BD8A-4257-9A53-3CF8A791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1D264-A087-46B8-B98C-88562225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358A9-8924-46C5-B074-23684FAE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0E0-AE08-4FA3-8E9E-2F321751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9711C-2F20-4C84-A755-77E5DBD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A44CF-5F47-4A96-B898-4CF1338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F6EB9-38B4-4A20-B8B9-BEABEB6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BEC17-BF5E-4C58-AFDC-BF4F153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F42F2-ED2D-4CDB-AE77-914613C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E7D37-C246-4499-926D-61357E2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5FAE5-E5CB-492D-888F-E7B5166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BD645-5323-4056-BC3E-0C84E5F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8FC12-0C31-418E-BF87-E5131AEE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509F5-868E-47DA-B75B-A913E4A5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BEF-EE29-42FF-A45A-953C8EB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B22B0-CBA4-49DB-AC4D-0B6769FE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EAB25-FAA1-452D-A660-DD8701F3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222AF-B18F-4E42-AA47-D015791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1A40-9DFE-4D82-9F0D-E38AD4D7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FF913-5381-4980-BBF4-9E38177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5B35-0C9D-47A4-BD51-6843052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B1BC-A324-4EDD-8A4D-97BF838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1D186-679B-4C78-9B29-CE0C53D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58FF4-BAEB-445E-9BFB-4174C3F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BB108-34B1-44C2-B6C7-10582C85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B0C8-E110-4C61-94C1-A3AD4DCE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1B80-17CA-4987-9D44-2973D3D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09DC8-10BE-4F6D-8461-5DD29112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F526A-0536-45EF-8162-D144A96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81017-B4B4-4F06-B380-87F7AC2F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AE5D8-C14F-48B6-ADC9-6192EF1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40488-5FFB-475C-A5EF-ED10EB2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8ACB7-74A6-4699-BDAA-95E550D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2089E-6D44-43A5-BE7B-63717AC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E5617-27C5-4E2C-ABB0-D2EFA7CE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812BA-92D8-4A21-BDB9-5B1410B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03D-CE92-46A5-A532-1A17F1A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FBFDE-B51E-46AD-A225-0976F94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E903C-169E-406F-9FFA-EF1CEABB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81DEB-1832-48B1-9D17-C6276E25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21746-CE8B-4126-9150-E3E2BE6A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D2925-72B0-4FD7-B8CE-FF67C6CE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DC02-A416-4986-B057-9AFE333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0560-C566-4772-88CA-F6FF483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2B2-3D22-4E04-B708-832740EC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992-752B-4691-BA90-54A3FAE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962-3C1A-44BA-81D5-9722F2C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089-821C-4C80-9A17-794734ED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4D08-6EE5-46C0-8B90-F7F59A2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57E8-EAE1-43AD-A40C-520F6C2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2F1-B459-47E2-B9A1-26B4339D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D253-C21D-4C0F-9073-A1E2E247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DB25-5FD6-42D7-BAAC-F2847B63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A4DF-A947-4FB9-8DD6-FD01A913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7011-B4D7-4C01-9136-1008659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65C9-06D0-48E0-BA80-67EA8E0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149B-ACF0-44CC-AA05-8F6E2021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AC5D-830F-44DF-886F-6376EDA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4FE-CB59-4654-B8D8-60C0D595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DB9E-90BC-469B-9342-57A4CA3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F1C9-1D9C-416C-9798-879AE92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5CDB-5E59-4E57-A2AB-BF0B5DC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4A62-672B-4C7D-B12D-D709AA1F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0637-66FC-4912-9360-057B8F7D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A237-03B6-497E-8C2A-5994A015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36F5-9185-4B2B-A16D-91DFD505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49D5-B4CC-43F3-9490-88E3AC14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086B-6FF4-4257-B9F7-A334809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B271-3A4E-47F5-BCFA-3DF7F24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0D9-F345-493D-BA10-96D1A97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8050-6C9F-4C74-9D84-7FEEDFD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5AC4-A59D-4370-8C81-D944F85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09BD-2F91-41CF-BE82-98BEADB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6EEB-D407-4B8F-A45C-D328C13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8516-9DD8-455C-9A03-C5E5E3B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3693-AA51-43FD-89B0-4F46DC4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E273-70BF-4BD3-9DEB-2698B314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F4C8-4FF8-4CDD-B62E-F104342F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E229-CCB5-4C52-B010-EF1688EE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A202-D9EA-4B8D-9105-B357A2F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A3-0092-48D5-BC06-470F3D6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263A-5E43-4022-8FA4-867609DA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F42B-EFCA-4B8C-9CFE-1640210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DA8B-5778-4669-AFB5-875FD5F8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14A5-A21D-4591-85D6-63F274D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54E4-76E7-494D-858C-1C2A1D2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2CA9-A2E1-4853-B21C-484A260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939F-0BB2-4406-94F2-A62D508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15B6-DE10-499D-9E6A-A7D9CCA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63A5-9884-4E12-AA42-AF3375B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82F5-15E5-42B8-9188-D470DAAD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CD3-BC4D-49F0-8BB2-9211AB8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E3A5-2223-4EED-BA49-CCD9DFEB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28EF5-8F7F-4968-8FE4-C80F604D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B661-C4C6-41D1-8E2E-A69FBC6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9E811-F422-45DD-AB77-0B8C3ED0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0C522-22C1-45B3-8FDC-5D887D9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9124-49F7-4001-867D-F43185FA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ACC18-A5DA-4479-8CF0-662DBA1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6A63-822F-4F05-8BD0-3338B537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5E84D-6BE9-4BFE-B6CA-C0EB910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00E5-9857-4EDD-99AF-3032145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310-B99D-4DEE-9F3E-57E1796B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E60C-EDE6-474F-8FF9-604F5C4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1486-BD19-49C4-B304-27FEA546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64DA-6603-4D70-9212-02BB5775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F433-986D-451D-9950-C2BDF3A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59B8-71DD-46F8-8800-B49745E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49E4-36C0-4BAD-B4F3-03F81057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46AB-1F3D-4ADD-871B-549CBD6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1CF7-6D91-443B-BACE-F43EE9E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7BD8-DA1A-4BF3-A1DA-9113FDB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C03C-CA4B-4277-92DB-6569BB5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EA0-7519-48CB-8D95-8F468DD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5D94-1919-49C7-B8D8-4EFE65E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28223-11B2-46FF-8D68-1201D8C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871B-12D8-47DB-B61C-53E5C9A8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F2054-2547-42B1-846D-472D9613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0704-89C9-4270-833B-33F94E3A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C7993-1739-4422-BFF2-99E49BE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BF59-E630-44E7-8040-60B5FEC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DAF1-D509-47CF-B7DE-4D7FF334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B9138-9A54-4ECC-9619-6ABBB0D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78C10-F5D0-4DD0-B8F7-AFE292F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7E9-D20E-478F-8E93-E562664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0CADB-35A2-48BD-88F2-FB72EE67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F1D1-E88E-4904-B0B7-1607957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6054-4E91-42F9-A352-2C1B99E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F424-23DA-4057-8C81-F2FA57B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349F-FA26-48CE-8C17-41CF9FCC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1CF4-0440-4A87-8D5B-AF4C68A5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726D0-6222-4C83-A087-B511BBA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7C4DB-5EBF-4ECF-B9EF-55986E57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9DEC1-32B6-4804-9D10-CC7F359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37CE5-DBFE-4A9A-AA49-9AB297F5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653-BCA1-4B85-8603-77CE04A34354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3E5-EEBC-484D-9CAC-008B72EC0DA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F38-54A7-442F-ADCD-E27FE57FC26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FCB9-58C0-4B90-AAC9-939FE75B776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7E5-67AF-48D6-B51D-C9ADA2A439D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C55-C27D-4E2F-9704-2E3A81EA3886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D36F-F9DE-4141-8320-BE5FF86FED9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F5B-390D-4302-A1F7-B8E9218FA61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BC5-9E38-4304-8387-1B2A1BFB916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251-DE0E-4F68-A8DE-C59DDC9047C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304F-0461-43C2-BBA3-5AE658F36206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250-0452-4464-834D-083FBA4E635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752480" y="2209680"/>
            <a:ext cx="655344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amiento de Datos 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o de Programa Almac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de Lenguaje Ensambla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35"/>
          <p:cNvGrpSpPr/>
          <p:nvPr/>
        </p:nvGrpSpPr>
        <p:grpSpPr>
          <a:xfrm>
            <a:off x="304920" y="304920"/>
            <a:ext cx="8381160" cy="5784840"/>
            <a:chOff x="304920" y="304920"/>
            <a:chExt cx="8381160" cy="5784840"/>
          </a:xfrm>
        </p:grpSpPr>
        <p:sp>
          <p:nvSpPr>
            <p:cNvPr id="709" name="Rectangle 6"/>
            <p:cNvSpPr/>
            <p:nvPr/>
          </p:nvSpPr>
          <p:spPr>
            <a:xfrm>
              <a:off x="349560" y="1876680"/>
              <a:ext cx="330192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:         MOV ADD ADD M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3651480" y="1876680"/>
              <a:ext cx="11642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 1 EAX, J EAX, K N, E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4816080" y="1876680"/>
              <a:ext cx="36471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1 EN EAX SUMA J A EAX SUMA K A EAX ALMACENA 1 + J + K EN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349560" y="2762280"/>
              <a:ext cx="3301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                       DD J:                       DD K:                       DD L:                       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3651480" y="2762280"/>
              <a:ext cx="1164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3     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4816080" y="2762280"/>
              <a:ext cx="3647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A 4 BYTE V INICIAL 2 RESERVA 4 BYTE V INICIAL 3 RESERVA 4 BYTE V INICIAL 4 RESERVA 4 BYTE V INICIA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349560" y="3648240"/>
              <a:ext cx="3301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3651480" y="3648240"/>
              <a:ext cx="1164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4"/>
            <p:cNvSpPr/>
            <p:nvPr/>
          </p:nvSpPr>
          <p:spPr>
            <a:xfrm>
              <a:off x="4816080" y="3648240"/>
              <a:ext cx="3647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49560" y="4410360"/>
              <a:ext cx="330192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:         MOVE.L ADD.L ADD.L MOVE.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3651480" y="4410360"/>
              <a:ext cx="11642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,DO J.DO K,DO DO,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7"/>
            <p:cNvSpPr/>
            <p:nvPr/>
          </p:nvSpPr>
          <p:spPr>
            <a:xfrm>
              <a:off x="4816080" y="4410360"/>
              <a:ext cx="36471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GA 1 EN DO SUMA J A DO SUMA K A DO ALMACENA 1 + J + K EN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22"/>
            <p:cNvGrpSpPr/>
            <p:nvPr/>
          </p:nvGrpSpPr>
          <p:grpSpPr>
            <a:xfrm>
              <a:off x="304920" y="304920"/>
              <a:ext cx="8381160" cy="777960"/>
              <a:chOff x="304920" y="304920"/>
              <a:chExt cx="8381160" cy="777960"/>
            </a:xfrm>
          </p:grpSpPr>
          <p:sp>
            <p:nvSpPr>
              <p:cNvPr id="722" name="Rectangle 2"/>
              <p:cNvSpPr/>
              <p:nvPr/>
            </p:nvSpPr>
            <p:spPr>
              <a:xfrm>
                <a:off x="349560" y="304920"/>
                <a:ext cx="8291880" cy="7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ula de una Instrucción en lenguaje ensamblador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>
                <a:off x="304920" y="304920"/>
                <a:ext cx="8381160" cy="777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24"/>
            <p:cNvGrpSpPr/>
            <p:nvPr/>
          </p:nvGrpSpPr>
          <p:grpSpPr>
            <a:xfrm>
              <a:off x="304920" y="1082880"/>
              <a:ext cx="3391200" cy="793800"/>
              <a:chOff x="304920" y="1082880"/>
              <a:chExt cx="3391200" cy="793800"/>
            </a:xfrm>
          </p:grpSpPr>
          <p:sp>
            <p:nvSpPr>
              <p:cNvPr id="725" name="Rectangle 3"/>
              <p:cNvSpPr/>
              <p:nvPr/>
            </p:nvSpPr>
            <p:spPr>
              <a:xfrm>
                <a:off x="349560" y="1082880"/>
                <a:ext cx="33015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               Campo etiqueta              ope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23"/>
              <p:cNvSpPr/>
              <p:nvPr/>
            </p:nvSpPr>
            <p:spPr>
              <a:xfrm>
                <a:off x="304920" y="1082880"/>
                <a:ext cx="33912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26"/>
            <p:cNvGrpSpPr/>
            <p:nvPr/>
          </p:nvGrpSpPr>
          <p:grpSpPr>
            <a:xfrm>
              <a:off x="3696480" y="1082880"/>
              <a:ext cx="1252440" cy="793800"/>
              <a:chOff x="3696480" y="1082880"/>
              <a:chExt cx="1252440" cy="793800"/>
            </a:xfrm>
          </p:grpSpPr>
          <p:sp>
            <p:nvSpPr>
              <p:cNvPr id="728" name="Rectangle 4"/>
              <p:cNvSpPr/>
              <p:nvPr/>
            </p:nvSpPr>
            <p:spPr>
              <a:xfrm>
                <a:off x="3741120" y="1082880"/>
                <a:ext cx="11631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operan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5"/>
              <p:cNvSpPr/>
              <p:nvPr/>
            </p:nvSpPr>
            <p:spPr>
              <a:xfrm>
                <a:off x="3696480" y="1082880"/>
                <a:ext cx="125244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28"/>
            <p:cNvGrpSpPr/>
            <p:nvPr/>
          </p:nvGrpSpPr>
          <p:grpSpPr>
            <a:xfrm>
              <a:off x="4949280" y="1082880"/>
              <a:ext cx="3736440" cy="793800"/>
              <a:chOff x="4949280" y="1082880"/>
              <a:chExt cx="3736440" cy="793800"/>
            </a:xfrm>
          </p:grpSpPr>
          <p:sp>
            <p:nvSpPr>
              <p:cNvPr id="731" name="Rectangle 5"/>
              <p:cNvSpPr/>
              <p:nvPr/>
            </p:nvSpPr>
            <p:spPr>
              <a:xfrm>
                <a:off x="4993920" y="1082880"/>
                <a:ext cx="364716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mpo de comentar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27"/>
              <p:cNvSpPr/>
              <p:nvPr/>
            </p:nvSpPr>
            <p:spPr>
              <a:xfrm>
                <a:off x="4949280" y="1082880"/>
                <a:ext cx="373644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30"/>
            <p:cNvGrpSpPr/>
            <p:nvPr/>
          </p:nvGrpSpPr>
          <p:grpSpPr>
            <a:xfrm>
              <a:off x="304920" y="5203800"/>
              <a:ext cx="3391200" cy="885960"/>
              <a:chOff x="304920" y="5203800"/>
              <a:chExt cx="3391200" cy="885960"/>
            </a:xfrm>
          </p:grpSpPr>
          <p:sp>
            <p:nvSpPr>
              <p:cNvPr id="734" name="Rectangle 18"/>
              <p:cNvSpPr/>
              <p:nvPr/>
            </p:nvSpPr>
            <p:spPr>
              <a:xfrm>
                <a:off x="349560" y="5203800"/>
                <a:ext cx="3301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:                       DC.L J:        '              DC.L K:                       DC.L L:                       DC.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29"/>
              <p:cNvSpPr/>
              <p:nvPr/>
            </p:nvSpPr>
            <p:spPr>
              <a:xfrm>
                <a:off x="304920" y="5203800"/>
                <a:ext cx="339120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32"/>
            <p:cNvGrpSpPr/>
            <p:nvPr/>
          </p:nvGrpSpPr>
          <p:grpSpPr>
            <a:xfrm>
              <a:off x="3696480" y="5203800"/>
              <a:ext cx="1252440" cy="885960"/>
              <a:chOff x="3696480" y="5203800"/>
              <a:chExt cx="1252440" cy="885960"/>
            </a:xfrm>
          </p:grpSpPr>
          <p:sp>
            <p:nvSpPr>
              <p:cNvPr id="737" name="Rectangle 19"/>
              <p:cNvSpPr/>
              <p:nvPr/>
            </p:nvSpPr>
            <p:spPr>
              <a:xfrm>
                <a:off x="3741120" y="5203800"/>
                <a:ext cx="11631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3 4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31"/>
              <p:cNvSpPr/>
              <p:nvPr/>
            </p:nvSpPr>
            <p:spPr>
              <a:xfrm>
                <a:off x="3696480" y="5203800"/>
                <a:ext cx="125244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34"/>
            <p:cNvGrpSpPr/>
            <p:nvPr/>
          </p:nvGrpSpPr>
          <p:grpSpPr>
            <a:xfrm>
              <a:off x="4949280" y="5203800"/>
              <a:ext cx="3736440" cy="885960"/>
              <a:chOff x="4949280" y="5203800"/>
              <a:chExt cx="3736440" cy="885960"/>
            </a:xfrm>
          </p:grpSpPr>
          <p:sp>
            <p:nvSpPr>
              <p:cNvPr id="740" name="Rectangle 20"/>
              <p:cNvSpPr/>
              <p:nvPr/>
            </p:nvSpPr>
            <p:spPr>
              <a:xfrm>
                <a:off x="4993920" y="5203800"/>
                <a:ext cx="36471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SERVA 4 BYTE V INICIAL 2 RESERVA 4 BYTE V INICIAL 3 RESERVA 4 BYTE V INICIAL 4 RESERVA 4 BYTE V INICIAL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3"/>
              <p:cNvSpPr/>
              <p:nvPr/>
            </p:nvSpPr>
            <p:spPr>
              <a:xfrm>
                <a:off x="4949280" y="5203800"/>
                <a:ext cx="3736440" cy="88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Rectangle 36"/>
          <p:cNvSpPr/>
          <p:nvPr/>
        </p:nvSpPr>
        <p:spPr>
          <a:xfrm>
            <a:off x="0" y="6016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23760" y="-1014480"/>
            <a:ext cx="7635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ción en ensambl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2700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17120" rIns="335160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16"/>
          <p:cNvGrpSpPr/>
          <p:nvPr/>
        </p:nvGrpSpPr>
        <p:grpSpPr>
          <a:xfrm>
            <a:off x="5486400" y="1066680"/>
            <a:ext cx="2106720" cy="533520"/>
            <a:chOff x="5486400" y="1066680"/>
            <a:chExt cx="2106720" cy="533520"/>
          </a:xfrm>
        </p:grpSpPr>
        <p:grpSp>
          <p:nvGrpSpPr>
            <p:cNvPr id="746" name="Group 9"/>
            <p:cNvGrpSpPr/>
            <p:nvPr/>
          </p:nvGrpSpPr>
          <p:grpSpPr>
            <a:xfrm>
              <a:off x="5486400" y="1066680"/>
              <a:ext cx="520560" cy="533520"/>
              <a:chOff x="5486400" y="1066680"/>
              <a:chExt cx="520560" cy="533520"/>
            </a:xfrm>
          </p:grpSpPr>
          <p:sp>
            <p:nvSpPr>
              <p:cNvPr id="747" name="Rectangle 4"/>
              <p:cNvSpPr/>
              <p:nvPr/>
            </p:nvSpPr>
            <p:spPr>
              <a:xfrm>
                <a:off x="5511960" y="1066680"/>
                <a:ext cx="4698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8"/>
              <p:cNvSpPr/>
              <p:nvPr/>
            </p:nvSpPr>
            <p:spPr>
              <a:xfrm>
                <a:off x="5486400" y="1066680"/>
                <a:ext cx="5205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11"/>
            <p:cNvGrpSpPr/>
            <p:nvPr/>
          </p:nvGrpSpPr>
          <p:grpSpPr>
            <a:xfrm>
              <a:off x="6006960" y="1066680"/>
              <a:ext cx="551160" cy="533520"/>
              <a:chOff x="6006960" y="1066680"/>
              <a:chExt cx="551160" cy="533520"/>
            </a:xfrm>
          </p:grpSpPr>
          <p:sp>
            <p:nvSpPr>
              <p:cNvPr id="750" name="Rectangle 5"/>
              <p:cNvSpPr/>
              <p:nvPr/>
            </p:nvSpPr>
            <p:spPr>
              <a:xfrm>
                <a:off x="6032520" y="1066680"/>
                <a:ext cx="5000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10"/>
              <p:cNvSpPr/>
              <p:nvPr/>
            </p:nvSpPr>
            <p:spPr>
              <a:xfrm>
                <a:off x="6006960" y="1066680"/>
                <a:ext cx="5511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13"/>
            <p:cNvGrpSpPr/>
            <p:nvPr/>
          </p:nvGrpSpPr>
          <p:grpSpPr>
            <a:xfrm>
              <a:off x="6558120" y="1066680"/>
              <a:ext cx="507960" cy="533520"/>
              <a:chOff x="6558120" y="1066680"/>
              <a:chExt cx="507960" cy="533520"/>
            </a:xfrm>
          </p:grpSpPr>
          <p:sp>
            <p:nvSpPr>
              <p:cNvPr id="753" name="Rectangle 6"/>
              <p:cNvSpPr/>
              <p:nvPr/>
            </p:nvSpPr>
            <p:spPr>
              <a:xfrm>
                <a:off x="6583320" y="10666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12"/>
              <p:cNvSpPr/>
              <p:nvPr/>
            </p:nvSpPr>
            <p:spPr>
              <a:xfrm>
                <a:off x="6558120" y="1066680"/>
                <a:ext cx="50796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15"/>
            <p:cNvGrpSpPr/>
            <p:nvPr/>
          </p:nvGrpSpPr>
          <p:grpSpPr>
            <a:xfrm>
              <a:off x="7066080" y="1066680"/>
              <a:ext cx="527040" cy="533520"/>
              <a:chOff x="7066080" y="1066680"/>
              <a:chExt cx="527040" cy="533520"/>
            </a:xfrm>
          </p:grpSpPr>
          <p:sp>
            <p:nvSpPr>
              <p:cNvPr id="756" name="Rectangle 7"/>
              <p:cNvSpPr/>
              <p:nvPr/>
            </p:nvSpPr>
            <p:spPr>
              <a:xfrm>
                <a:off x="7091280" y="1066680"/>
                <a:ext cx="47628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14"/>
              <p:cNvSpPr/>
              <p:nvPr/>
            </p:nvSpPr>
            <p:spPr>
              <a:xfrm>
                <a:off x="7066080" y="1066680"/>
                <a:ext cx="527040" cy="533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Rectangle 17"/>
          <p:cNvSpPr/>
          <p:nvPr/>
        </p:nvSpPr>
        <p:spPr>
          <a:xfrm>
            <a:off x="0" y="2784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1066680" y="2666880"/>
            <a:ext cx="7315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6880" rIns="305640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 Campo de etique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Campo de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 Campo de opera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Campo de co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9"/>
          <p:cNvSpPr/>
          <p:nvPr/>
        </p:nvSpPr>
        <p:spPr>
          <a:xfrm>
            <a:off x="0" y="7264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0"/>
          <p:cNvSpPr/>
          <p:nvPr/>
        </p:nvSpPr>
        <p:spPr>
          <a:xfrm>
            <a:off x="4267080" y="3505320"/>
            <a:ext cx="449604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s nombres simbólicos a las instrucciones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eviatu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bólica del código de operación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ific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registros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ermite explicar el funcionamiento del programa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1"/>
          <p:cNvSpPr/>
          <p:nvPr/>
        </p:nvSpPr>
        <p:spPr>
          <a:xfrm>
            <a:off x="838080" y="838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en ensamb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5"/>
          <p:cNvSpPr/>
          <p:nvPr/>
        </p:nvSpPr>
        <p:spPr>
          <a:xfrm>
            <a:off x="380880" y="762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nguaje Ensamblador   vs.   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762120" y="243828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)- Arq. Dependiente                Arq.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)- Difícil de Mantener             Fácil Manten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)- Difícil de Programar           Fácil de 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)- Etiquetas Simbó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tringidas en su longit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4800600" y="41148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tiquetas mas próximo al lenguaje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8"/>
          <p:cNvSpPr/>
          <p:nvPr/>
        </p:nvSpPr>
        <p:spPr>
          <a:xfrm>
            <a:off x="0" y="-685800"/>
            <a:ext cx="98298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2060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Proceso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sambladores de 2 pasad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° Pasada: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la tabla de símbolos; que contiene etiquet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(nombres simbólicos). Ej.: ESPACIO equ 100 Debe identificarse la dirección de la instrucción para ello se crea el ILC ____*   "Contador de Posiciones de Instrucción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79"/>
          <p:cNvSpPr/>
          <p:nvPr/>
        </p:nvSpPr>
        <p:spPr>
          <a:xfrm>
            <a:off x="0" y="-6353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0"/>
          <p:cNvSpPr/>
          <p:nvPr/>
        </p:nvSpPr>
        <p:spPr>
          <a:xfrm>
            <a:off x="0" y="2438280"/>
            <a:ext cx="175248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ampo etiqu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USANA: MAR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ARISA: CARM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81"/>
          <p:cNvSpPr/>
          <p:nvPr/>
        </p:nvSpPr>
        <p:spPr>
          <a:xfrm>
            <a:off x="0" y="-425304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58200" rIns="28882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124"/>
          <p:cNvGrpSpPr/>
          <p:nvPr/>
        </p:nvGrpSpPr>
        <p:grpSpPr>
          <a:xfrm>
            <a:off x="1676520" y="1752480"/>
            <a:ext cx="4722840" cy="2613240"/>
            <a:chOff x="1676520" y="1752480"/>
            <a:chExt cx="4722840" cy="2613240"/>
          </a:xfrm>
        </p:grpSpPr>
        <p:sp>
          <p:nvSpPr>
            <p:cNvPr id="771" name="Rectangle 82"/>
            <p:cNvSpPr/>
            <p:nvPr/>
          </p:nvSpPr>
          <p:spPr>
            <a:xfrm>
              <a:off x="1744920" y="175248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83"/>
            <p:cNvSpPr/>
            <p:nvPr/>
          </p:nvSpPr>
          <p:spPr>
            <a:xfrm>
              <a:off x="2889360" y="175248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84"/>
            <p:cNvSpPr/>
            <p:nvPr/>
          </p:nvSpPr>
          <p:spPr>
            <a:xfrm>
              <a:off x="4229640" y="175248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88"/>
            <p:cNvSpPr/>
            <p:nvPr/>
          </p:nvSpPr>
          <p:spPr>
            <a:xfrm>
              <a:off x="1744920" y="21812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89"/>
            <p:cNvSpPr/>
            <p:nvPr/>
          </p:nvSpPr>
          <p:spPr>
            <a:xfrm>
              <a:off x="2889360" y="21812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90"/>
            <p:cNvSpPr/>
            <p:nvPr/>
          </p:nvSpPr>
          <p:spPr>
            <a:xfrm>
              <a:off x="4229640" y="21812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-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91"/>
            <p:cNvSpPr/>
            <p:nvPr/>
          </p:nvSpPr>
          <p:spPr>
            <a:xfrm>
              <a:off x="1744920" y="238032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92"/>
            <p:cNvSpPr/>
            <p:nvPr/>
          </p:nvSpPr>
          <p:spPr>
            <a:xfrm>
              <a:off x="2889360" y="238032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93"/>
            <p:cNvSpPr/>
            <p:nvPr/>
          </p:nvSpPr>
          <p:spPr>
            <a:xfrm>
              <a:off x="4229640" y="238032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.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94"/>
            <p:cNvSpPr/>
            <p:nvPr/>
          </p:nvSpPr>
          <p:spPr>
            <a:xfrm>
              <a:off x="1744920" y="25790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95"/>
            <p:cNvSpPr/>
            <p:nvPr/>
          </p:nvSpPr>
          <p:spPr>
            <a:xfrm>
              <a:off x="2889360" y="25790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.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96"/>
            <p:cNvSpPr/>
            <p:nvPr/>
          </p:nvSpPr>
          <p:spPr>
            <a:xfrm>
              <a:off x="4229640" y="25790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«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97"/>
            <p:cNvSpPr/>
            <p:nvPr/>
          </p:nvSpPr>
          <p:spPr>
            <a:xfrm>
              <a:off x="1744920" y="27777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2889360" y="27777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.E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99"/>
            <p:cNvSpPr/>
            <p:nvPr/>
          </p:nvSpPr>
          <p:spPr>
            <a:xfrm>
              <a:off x="4229640" y="27777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 - !•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100"/>
            <p:cNvSpPr/>
            <p:nvPr/>
          </p:nvSpPr>
          <p:spPr>
            <a:xfrm>
              <a:off x="1744920" y="297684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101"/>
            <p:cNvSpPr/>
            <p:nvPr/>
          </p:nvSpPr>
          <p:spPr>
            <a:xfrm>
              <a:off x="2889360" y="297684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.EB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102"/>
            <p:cNvSpPr/>
            <p:nvPr/>
          </p:nvSpPr>
          <p:spPr>
            <a:xfrm>
              <a:off x="4229640" y="297684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X = J"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03"/>
            <p:cNvSpPr/>
            <p:nvPr/>
          </p:nvSpPr>
          <p:spPr>
            <a:xfrm>
              <a:off x="1744920" y="31755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U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104"/>
            <p:cNvSpPr/>
            <p:nvPr/>
          </p:nvSpPr>
          <p:spPr>
            <a:xfrm>
              <a:off x="2889360" y="31755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.E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105"/>
            <p:cNvSpPr/>
            <p:nvPr/>
          </p:nvSpPr>
          <p:spPr>
            <a:xfrm>
              <a:off x="4229640" y="31755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X = K«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106"/>
            <p:cNvSpPr/>
            <p:nvPr/>
          </p:nvSpPr>
          <p:spPr>
            <a:xfrm>
              <a:off x="1744920" y="337428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107"/>
            <p:cNvSpPr/>
            <p:nvPr/>
          </p:nvSpPr>
          <p:spPr>
            <a:xfrm>
              <a:off x="2889360" y="337428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, EB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108"/>
            <p:cNvSpPr/>
            <p:nvPr/>
          </p:nvSpPr>
          <p:spPr>
            <a:xfrm>
              <a:off x="4229640" y="337428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-I"I + J*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109"/>
            <p:cNvSpPr/>
            <p:nvPr/>
          </p:nvSpPr>
          <p:spPr>
            <a:xfrm>
              <a:off x="1744920" y="357336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110"/>
            <p:cNvSpPr/>
            <p:nvPr/>
          </p:nvSpPr>
          <p:spPr>
            <a:xfrm>
              <a:off x="2889360" y="357336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.E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11"/>
            <p:cNvSpPr/>
            <p:nvPr/>
          </p:nvSpPr>
          <p:spPr>
            <a:xfrm>
              <a:off x="4229640" y="3573360"/>
              <a:ext cx="18295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X .1*1 + JM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12"/>
            <p:cNvSpPr/>
            <p:nvPr/>
          </p:nvSpPr>
          <p:spPr>
            <a:xfrm>
              <a:off x="1744920" y="3772080"/>
              <a:ext cx="11444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13"/>
            <p:cNvSpPr/>
            <p:nvPr/>
          </p:nvSpPr>
          <p:spPr>
            <a:xfrm>
              <a:off x="2889360" y="3772080"/>
              <a:ext cx="13402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.E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114"/>
            <p:cNvSpPr/>
            <p:nvPr/>
          </p:nvSpPr>
          <p:spPr>
            <a:xfrm>
              <a:off x="4229640" y="3772080"/>
              <a:ext cx="18295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= 1*1 + J*J + K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15"/>
            <p:cNvSpPr/>
            <p:nvPr/>
          </p:nvSpPr>
          <p:spPr>
            <a:xfrm>
              <a:off x="1744920" y="3993120"/>
              <a:ext cx="11444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16"/>
            <p:cNvSpPr/>
            <p:nvPr/>
          </p:nvSpPr>
          <p:spPr>
            <a:xfrm>
              <a:off x="2889360" y="3993120"/>
              <a:ext cx="13402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117"/>
            <p:cNvSpPr/>
            <p:nvPr/>
          </p:nvSpPr>
          <p:spPr>
            <a:xfrm>
              <a:off x="4570200" y="4077720"/>
              <a:ext cx="14378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TA A 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Group 119"/>
            <p:cNvGrpSpPr/>
            <p:nvPr/>
          </p:nvGrpSpPr>
          <p:grpSpPr>
            <a:xfrm>
              <a:off x="1676520" y="1951200"/>
              <a:ext cx="1279800" cy="230040"/>
              <a:chOff x="1676520" y="1951200"/>
              <a:chExt cx="1279800" cy="230040"/>
            </a:xfrm>
          </p:grpSpPr>
          <p:sp>
            <p:nvSpPr>
              <p:cNvPr id="805" name="Rectangle 85"/>
              <p:cNvSpPr/>
              <p:nvPr/>
            </p:nvSpPr>
            <p:spPr>
              <a:xfrm>
                <a:off x="1744920" y="1951200"/>
                <a:ext cx="114372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118"/>
              <p:cNvSpPr/>
              <p:nvPr/>
            </p:nvSpPr>
            <p:spPr>
              <a:xfrm>
                <a:off x="1676520" y="1951200"/>
                <a:ext cx="127980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121"/>
            <p:cNvGrpSpPr/>
            <p:nvPr/>
          </p:nvGrpSpPr>
          <p:grpSpPr>
            <a:xfrm>
              <a:off x="2957040" y="1951200"/>
              <a:ext cx="1476360" cy="230040"/>
              <a:chOff x="2957040" y="1951200"/>
              <a:chExt cx="1476360" cy="230040"/>
            </a:xfrm>
          </p:grpSpPr>
          <p:sp>
            <p:nvSpPr>
              <p:cNvPr id="808" name="Rectangle 86"/>
              <p:cNvSpPr/>
              <p:nvPr/>
            </p:nvSpPr>
            <p:spPr>
              <a:xfrm>
                <a:off x="3025440" y="1951200"/>
                <a:ext cx="13392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n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120"/>
              <p:cNvSpPr/>
              <p:nvPr/>
            </p:nvSpPr>
            <p:spPr>
              <a:xfrm>
                <a:off x="2957040" y="1951200"/>
                <a:ext cx="147636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123"/>
            <p:cNvGrpSpPr/>
            <p:nvPr/>
          </p:nvGrpSpPr>
          <p:grpSpPr>
            <a:xfrm>
              <a:off x="4434480" y="1951200"/>
              <a:ext cx="1964880" cy="230040"/>
              <a:chOff x="4434480" y="1951200"/>
              <a:chExt cx="1964880" cy="230040"/>
            </a:xfrm>
          </p:grpSpPr>
          <p:sp>
            <p:nvSpPr>
              <p:cNvPr id="811" name="Rectangle 87"/>
              <p:cNvSpPr/>
              <p:nvPr/>
            </p:nvSpPr>
            <p:spPr>
              <a:xfrm>
                <a:off x="4501800" y="1951200"/>
                <a:ext cx="18288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entarl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122"/>
              <p:cNvSpPr/>
              <p:nvPr/>
            </p:nvSpPr>
            <p:spPr>
              <a:xfrm>
                <a:off x="4434480" y="1951200"/>
                <a:ext cx="1964880" cy="230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25"/>
          <p:cNvSpPr/>
          <p:nvPr/>
        </p:nvSpPr>
        <p:spPr>
          <a:xfrm>
            <a:off x="0" y="61102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52"/>
          <p:cNvGrpSpPr/>
          <p:nvPr/>
        </p:nvGrpSpPr>
        <p:grpSpPr>
          <a:xfrm>
            <a:off x="6172200" y="1981080"/>
            <a:ext cx="2589120" cy="2362320"/>
            <a:chOff x="6172200" y="1981080"/>
            <a:chExt cx="2589120" cy="2362320"/>
          </a:xfrm>
        </p:grpSpPr>
        <p:sp>
          <p:nvSpPr>
            <p:cNvPr id="815" name="Rectangle 128"/>
            <p:cNvSpPr/>
            <p:nvPr/>
          </p:nvSpPr>
          <p:spPr>
            <a:xfrm>
              <a:off x="6237360" y="225756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29"/>
            <p:cNvSpPr/>
            <p:nvPr/>
          </p:nvSpPr>
          <p:spPr>
            <a:xfrm>
              <a:off x="7403040" y="225756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30"/>
            <p:cNvSpPr/>
            <p:nvPr/>
          </p:nvSpPr>
          <p:spPr>
            <a:xfrm>
              <a:off x="6237360" y="24652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1"/>
            <p:cNvSpPr/>
            <p:nvPr/>
          </p:nvSpPr>
          <p:spPr>
            <a:xfrm>
              <a:off x="7403040" y="24652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32"/>
            <p:cNvSpPr/>
            <p:nvPr/>
          </p:nvSpPr>
          <p:spPr>
            <a:xfrm>
              <a:off x="6237360" y="26730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3"/>
            <p:cNvSpPr/>
            <p:nvPr/>
          </p:nvSpPr>
          <p:spPr>
            <a:xfrm>
              <a:off x="7403040" y="26730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34"/>
            <p:cNvSpPr/>
            <p:nvPr/>
          </p:nvSpPr>
          <p:spPr>
            <a:xfrm>
              <a:off x="6237360" y="28807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35"/>
            <p:cNvSpPr/>
            <p:nvPr/>
          </p:nvSpPr>
          <p:spPr>
            <a:xfrm>
              <a:off x="7403040" y="28807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136"/>
            <p:cNvSpPr/>
            <p:nvPr/>
          </p:nvSpPr>
          <p:spPr>
            <a:xfrm>
              <a:off x="6237360" y="30880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37"/>
            <p:cNvSpPr/>
            <p:nvPr/>
          </p:nvSpPr>
          <p:spPr>
            <a:xfrm>
              <a:off x="7403040" y="30880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38"/>
            <p:cNvSpPr/>
            <p:nvPr/>
          </p:nvSpPr>
          <p:spPr>
            <a:xfrm>
              <a:off x="6237360" y="32958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39"/>
            <p:cNvSpPr/>
            <p:nvPr/>
          </p:nvSpPr>
          <p:spPr>
            <a:xfrm>
              <a:off x="7403040" y="329580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140"/>
            <p:cNvSpPr/>
            <p:nvPr/>
          </p:nvSpPr>
          <p:spPr>
            <a:xfrm>
              <a:off x="6237360" y="35035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41"/>
            <p:cNvSpPr/>
            <p:nvPr/>
          </p:nvSpPr>
          <p:spPr>
            <a:xfrm>
              <a:off x="7403040" y="350352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42"/>
            <p:cNvSpPr/>
            <p:nvPr/>
          </p:nvSpPr>
          <p:spPr>
            <a:xfrm>
              <a:off x="6237360" y="37108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143"/>
            <p:cNvSpPr/>
            <p:nvPr/>
          </p:nvSpPr>
          <p:spPr>
            <a:xfrm>
              <a:off x="7403040" y="3710880"/>
              <a:ext cx="11656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Z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44"/>
            <p:cNvSpPr/>
            <p:nvPr/>
          </p:nvSpPr>
          <p:spPr>
            <a:xfrm>
              <a:off x="6237360" y="39186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145"/>
            <p:cNvSpPr/>
            <p:nvPr/>
          </p:nvSpPr>
          <p:spPr>
            <a:xfrm>
              <a:off x="7403040" y="39186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146"/>
            <p:cNvSpPr/>
            <p:nvPr/>
          </p:nvSpPr>
          <p:spPr>
            <a:xfrm>
              <a:off x="6237360" y="41310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47"/>
            <p:cNvSpPr/>
            <p:nvPr/>
          </p:nvSpPr>
          <p:spPr>
            <a:xfrm>
              <a:off x="7403040" y="4131000"/>
              <a:ext cx="11656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149"/>
            <p:cNvGrpSpPr/>
            <p:nvPr/>
          </p:nvGrpSpPr>
          <p:grpSpPr>
            <a:xfrm>
              <a:off x="6172200" y="1981080"/>
              <a:ext cx="1294200" cy="276480"/>
              <a:chOff x="6172200" y="1981080"/>
              <a:chExt cx="1294200" cy="276480"/>
            </a:xfrm>
          </p:grpSpPr>
          <p:sp>
            <p:nvSpPr>
              <p:cNvPr id="836" name="Rectangle 126"/>
              <p:cNvSpPr/>
              <p:nvPr/>
            </p:nvSpPr>
            <p:spPr>
              <a:xfrm>
                <a:off x="6237000" y="1981080"/>
                <a:ext cx="116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ngitud instruc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148"/>
              <p:cNvSpPr/>
              <p:nvPr/>
            </p:nvSpPr>
            <p:spPr>
              <a:xfrm>
                <a:off x="6172200" y="1981080"/>
                <a:ext cx="1294200" cy="27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51"/>
            <p:cNvGrpSpPr/>
            <p:nvPr/>
          </p:nvGrpSpPr>
          <p:grpSpPr>
            <a:xfrm>
              <a:off x="7467120" y="1981080"/>
              <a:ext cx="1294200" cy="276480"/>
              <a:chOff x="7467120" y="1981080"/>
              <a:chExt cx="1294200" cy="276480"/>
            </a:xfrm>
          </p:grpSpPr>
          <p:sp>
            <p:nvSpPr>
              <p:cNvPr id="839" name="Rectangle 127"/>
              <p:cNvSpPr/>
              <p:nvPr/>
            </p:nvSpPr>
            <p:spPr>
              <a:xfrm>
                <a:off x="7531920" y="1981080"/>
                <a:ext cx="116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LC ante» sent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150"/>
              <p:cNvSpPr/>
              <p:nvPr/>
            </p:nvSpPr>
            <p:spPr>
              <a:xfrm>
                <a:off x="7467120" y="1981080"/>
                <a:ext cx="1294200" cy="27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Rectangle 153"/>
          <p:cNvSpPr/>
          <p:nvPr/>
        </p:nvSpPr>
        <p:spPr>
          <a:xfrm>
            <a:off x="2438280" y="4495680"/>
            <a:ext cx="5181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-3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tador de posiciones de instrucción (ILC) va tomando el valor de la direc­ción donde se cargará la instrucción en memoria. En este ejemplo, las sentencias anteriores a SUSANA ocupan 100 by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0" y="-116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9"/>
          <p:cNvSpPr/>
          <p:nvPr/>
        </p:nvSpPr>
        <p:spPr>
          <a:xfrm>
            <a:off x="0" y="-398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"/>
          <p:cNvSpPr/>
          <p:nvPr/>
        </p:nvSpPr>
        <p:spPr>
          <a:xfrm>
            <a:off x="0" y="363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0" y="1125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0" y="1887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Group 61"/>
          <p:cNvGrpSpPr/>
          <p:nvPr/>
        </p:nvGrpSpPr>
        <p:grpSpPr>
          <a:xfrm>
            <a:off x="1143000" y="228600"/>
            <a:ext cx="7085520" cy="2033640"/>
            <a:chOff x="1143000" y="228600"/>
            <a:chExt cx="7085520" cy="2033640"/>
          </a:xfrm>
        </p:grpSpPr>
        <p:grpSp>
          <p:nvGrpSpPr>
            <p:cNvPr id="848" name="Group 26"/>
            <p:cNvGrpSpPr/>
            <p:nvPr/>
          </p:nvGrpSpPr>
          <p:grpSpPr>
            <a:xfrm>
              <a:off x="1143000" y="228600"/>
              <a:ext cx="2129400" cy="2033640"/>
              <a:chOff x="1143000" y="228600"/>
              <a:chExt cx="2129400" cy="2033640"/>
            </a:xfrm>
          </p:grpSpPr>
          <p:sp>
            <p:nvSpPr>
              <p:cNvPr id="849" name="Rectangle 2"/>
              <p:cNvSpPr/>
              <p:nvPr/>
            </p:nvSpPr>
            <p:spPr>
              <a:xfrm>
                <a:off x="1180080" y="228600"/>
                <a:ext cx="2055600" cy="20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1143000" y="228600"/>
                <a:ext cx="2129400" cy="203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28"/>
            <p:cNvGrpSpPr/>
            <p:nvPr/>
          </p:nvGrpSpPr>
          <p:grpSpPr>
            <a:xfrm>
              <a:off x="3272760" y="228600"/>
              <a:ext cx="2898000" cy="286920"/>
              <a:chOff x="3272760" y="228600"/>
              <a:chExt cx="2898000" cy="286920"/>
            </a:xfrm>
          </p:grpSpPr>
          <p:sp>
            <p:nvSpPr>
              <p:cNvPr id="852" name="Rectangle 3"/>
              <p:cNvSpPr/>
              <p:nvPr/>
            </p:nvSpPr>
            <p:spPr>
              <a:xfrm>
                <a:off x="3309840" y="228600"/>
                <a:ext cx="282384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ímbolo    Valor     Otra inform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27"/>
              <p:cNvSpPr/>
              <p:nvPr/>
            </p:nvSpPr>
            <p:spPr>
              <a:xfrm>
                <a:off x="3272760" y="228600"/>
                <a:ext cx="2898000" cy="286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30"/>
            <p:cNvGrpSpPr/>
            <p:nvPr/>
          </p:nvGrpSpPr>
          <p:grpSpPr>
            <a:xfrm>
              <a:off x="6171120" y="228600"/>
              <a:ext cx="2057400" cy="2033640"/>
              <a:chOff x="6171120" y="228600"/>
              <a:chExt cx="2057400" cy="2033640"/>
            </a:xfrm>
          </p:grpSpPr>
          <p:sp>
            <p:nvSpPr>
              <p:cNvPr id="855" name="Rectangle 4"/>
              <p:cNvSpPr/>
              <p:nvPr/>
            </p:nvSpPr>
            <p:spPr>
              <a:xfrm>
                <a:off x="6207480" y="228600"/>
                <a:ext cx="1984320" cy="20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29"/>
              <p:cNvSpPr/>
              <p:nvPr/>
            </p:nvSpPr>
            <p:spPr>
              <a:xfrm>
                <a:off x="6171120" y="228600"/>
                <a:ext cx="2057400" cy="203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32"/>
            <p:cNvGrpSpPr/>
            <p:nvPr/>
          </p:nvGrpSpPr>
          <p:grpSpPr>
            <a:xfrm>
              <a:off x="3272760" y="515520"/>
              <a:ext cx="844200" cy="324720"/>
              <a:chOff x="3272760" y="515520"/>
              <a:chExt cx="844200" cy="324720"/>
            </a:xfrm>
          </p:grpSpPr>
          <p:sp>
            <p:nvSpPr>
              <p:cNvPr id="858" name="Rectangle 6"/>
              <p:cNvSpPr/>
              <p:nvPr/>
            </p:nvSpPr>
            <p:spPr>
              <a:xfrm>
                <a:off x="3309840" y="515520"/>
                <a:ext cx="77040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SANA </a:t>
                </a:r>
                <a:r>
                  <a:rPr b="0" lang="es-ES_tradnl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:</a:t>
                </a: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31"/>
              <p:cNvSpPr/>
              <p:nvPr/>
            </p:nvSpPr>
            <p:spPr>
              <a:xfrm>
                <a:off x="3272760" y="515520"/>
                <a:ext cx="84420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34"/>
            <p:cNvGrpSpPr/>
            <p:nvPr/>
          </p:nvGrpSpPr>
          <p:grpSpPr>
            <a:xfrm>
              <a:off x="4117320" y="515520"/>
              <a:ext cx="534960" cy="324720"/>
              <a:chOff x="4117320" y="515520"/>
              <a:chExt cx="534960" cy="324720"/>
            </a:xfrm>
          </p:grpSpPr>
          <p:sp>
            <p:nvSpPr>
              <p:cNvPr id="861" name="Rectangle 7"/>
              <p:cNvSpPr/>
              <p:nvPr/>
            </p:nvSpPr>
            <p:spPr>
              <a:xfrm>
                <a:off x="4154400" y="515520"/>
                <a:ext cx="4611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33"/>
              <p:cNvSpPr/>
              <p:nvPr/>
            </p:nvSpPr>
            <p:spPr>
              <a:xfrm>
                <a:off x="4117320" y="515520"/>
                <a:ext cx="53496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36"/>
            <p:cNvGrpSpPr/>
            <p:nvPr/>
          </p:nvGrpSpPr>
          <p:grpSpPr>
            <a:xfrm>
              <a:off x="4652640" y="515520"/>
              <a:ext cx="1518120" cy="324720"/>
              <a:chOff x="4652640" y="515520"/>
              <a:chExt cx="1518120" cy="324720"/>
            </a:xfrm>
          </p:grpSpPr>
          <p:sp>
            <p:nvSpPr>
              <p:cNvPr id="864" name="Rectangle 8"/>
              <p:cNvSpPr/>
              <p:nvPr/>
            </p:nvSpPr>
            <p:spPr>
              <a:xfrm>
                <a:off x="4689720" y="515520"/>
                <a:ext cx="1443960" cy="32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35"/>
              <p:cNvSpPr/>
              <p:nvPr/>
            </p:nvSpPr>
            <p:spPr>
              <a:xfrm>
                <a:off x="4652640" y="515520"/>
                <a:ext cx="1518120" cy="32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8"/>
            <p:cNvGrpSpPr/>
            <p:nvPr/>
          </p:nvGrpSpPr>
          <p:grpSpPr>
            <a:xfrm>
              <a:off x="3272760" y="840600"/>
              <a:ext cx="844200" cy="361080"/>
              <a:chOff x="3272760" y="840600"/>
              <a:chExt cx="844200" cy="361080"/>
            </a:xfrm>
          </p:grpSpPr>
          <p:sp>
            <p:nvSpPr>
              <p:cNvPr id="867" name="Rectangle 10"/>
              <p:cNvSpPr/>
              <p:nvPr/>
            </p:nvSpPr>
            <p:spPr>
              <a:xfrm>
                <a:off x="3309840" y="840600"/>
                <a:ext cx="7704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Í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Rectangle 37"/>
              <p:cNvSpPr/>
              <p:nvPr/>
            </p:nvSpPr>
            <p:spPr>
              <a:xfrm>
                <a:off x="3272760" y="840600"/>
                <a:ext cx="84420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40"/>
            <p:cNvGrpSpPr/>
            <p:nvPr/>
          </p:nvGrpSpPr>
          <p:grpSpPr>
            <a:xfrm>
              <a:off x="4117320" y="840600"/>
              <a:ext cx="534960" cy="361080"/>
              <a:chOff x="4117320" y="840600"/>
              <a:chExt cx="534960" cy="361080"/>
            </a:xfrm>
          </p:grpSpPr>
          <p:sp>
            <p:nvSpPr>
              <p:cNvPr id="870" name="Rectangle 11"/>
              <p:cNvSpPr/>
              <p:nvPr/>
            </p:nvSpPr>
            <p:spPr>
              <a:xfrm>
                <a:off x="4154400" y="840600"/>
                <a:ext cx="461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39"/>
              <p:cNvSpPr/>
              <p:nvPr/>
            </p:nvSpPr>
            <p:spPr>
              <a:xfrm>
                <a:off x="4117320" y="840600"/>
                <a:ext cx="53496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42"/>
            <p:cNvGrpSpPr/>
            <p:nvPr/>
          </p:nvGrpSpPr>
          <p:grpSpPr>
            <a:xfrm>
              <a:off x="4652640" y="840600"/>
              <a:ext cx="1518120" cy="361080"/>
              <a:chOff x="4652640" y="840600"/>
              <a:chExt cx="1518120" cy="361080"/>
            </a:xfrm>
          </p:grpSpPr>
          <p:sp>
            <p:nvSpPr>
              <p:cNvPr id="873" name="Rectangle 12"/>
              <p:cNvSpPr/>
              <p:nvPr/>
            </p:nvSpPr>
            <p:spPr>
              <a:xfrm>
                <a:off x="4689720" y="840600"/>
                <a:ext cx="14439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41"/>
              <p:cNvSpPr/>
              <p:nvPr/>
            </p:nvSpPr>
            <p:spPr>
              <a:xfrm>
                <a:off x="4652640" y="840600"/>
                <a:ext cx="1518120" cy="361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44"/>
            <p:cNvGrpSpPr/>
            <p:nvPr/>
          </p:nvGrpSpPr>
          <p:grpSpPr>
            <a:xfrm>
              <a:off x="3272760" y="1202040"/>
              <a:ext cx="844200" cy="311760"/>
              <a:chOff x="3272760" y="1202040"/>
              <a:chExt cx="844200" cy="311760"/>
            </a:xfrm>
          </p:grpSpPr>
          <p:sp>
            <p:nvSpPr>
              <p:cNvPr id="876" name="Rectangle 14"/>
              <p:cNvSpPr/>
              <p:nvPr/>
            </p:nvSpPr>
            <p:spPr>
              <a:xfrm>
                <a:off x="3309840" y="1202040"/>
                <a:ext cx="7704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I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43"/>
              <p:cNvSpPr/>
              <p:nvPr/>
            </p:nvSpPr>
            <p:spPr>
              <a:xfrm>
                <a:off x="3272760" y="1202040"/>
                <a:ext cx="84420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46"/>
            <p:cNvGrpSpPr/>
            <p:nvPr/>
          </p:nvGrpSpPr>
          <p:grpSpPr>
            <a:xfrm>
              <a:off x="4117320" y="1202040"/>
              <a:ext cx="534960" cy="311760"/>
              <a:chOff x="4117320" y="1202040"/>
              <a:chExt cx="534960" cy="311760"/>
            </a:xfrm>
          </p:grpSpPr>
          <p:sp>
            <p:nvSpPr>
              <p:cNvPr id="879" name="Rectangle 15"/>
              <p:cNvSpPr/>
              <p:nvPr/>
            </p:nvSpPr>
            <p:spPr>
              <a:xfrm>
                <a:off x="4154400" y="1202040"/>
                <a:ext cx="4611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Rectangle 45"/>
              <p:cNvSpPr/>
              <p:nvPr/>
            </p:nvSpPr>
            <p:spPr>
              <a:xfrm>
                <a:off x="4117320" y="1202040"/>
                <a:ext cx="53496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Group 48"/>
            <p:cNvGrpSpPr/>
            <p:nvPr/>
          </p:nvGrpSpPr>
          <p:grpSpPr>
            <a:xfrm>
              <a:off x="4652640" y="1202040"/>
              <a:ext cx="1518120" cy="311760"/>
              <a:chOff x="4652640" y="1202040"/>
              <a:chExt cx="1518120" cy="311760"/>
            </a:xfrm>
          </p:grpSpPr>
          <p:sp>
            <p:nvSpPr>
              <p:cNvPr id="882" name="Rectangle 16"/>
              <p:cNvSpPr/>
              <p:nvPr/>
            </p:nvSpPr>
            <p:spPr>
              <a:xfrm>
                <a:off x="4689720" y="1202040"/>
                <a:ext cx="14439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47"/>
              <p:cNvSpPr/>
              <p:nvPr/>
            </p:nvSpPr>
            <p:spPr>
              <a:xfrm>
                <a:off x="4652640" y="1202040"/>
                <a:ext cx="151812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50"/>
            <p:cNvGrpSpPr/>
            <p:nvPr/>
          </p:nvGrpSpPr>
          <p:grpSpPr>
            <a:xfrm>
              <a:off x="3272760" y="1513800"/>
              <a:ext cx="844200" cy="311760"/>
              <a:chOff x="3272760" y="1513800"/>
              <a:chExt cx="844200" cy="311760"/>
            </a:xfrm>
          </p:grpSpPr>
          <p:sp>
            <p:nvSpPr>
              <p:cNvPr id="885" name="Rectangle 18"/>
              <p:cNvSpPr/>
              <p:nvPr/>
            </p:nvSpPr>
            <p:spPr>
              <a:xfrm>
                <a:off x="3309840" y="1513800"/>
                <a:ext cx="77040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RM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49"/>
              <p:cNvSpPr/>
              <p:nvPr/>
            </p:nvSpPr>
            <p:spPr>
              <a:xfrm>
                <a:off x="3272760" y="1513800"/>
                <a:ext cx="84420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Group 52"/>
            <p:cNvGrpSpPr/>
            <p:nvPr/>
          </p:nvGrpSpPr>
          <p:grpSpPr>
            <a:xfrm>
              <a:off x="4117320" y="1513800"/>
              <a:ext cx="534960" cy="311760"/>
              <a:chOff x="4117320" y="1513800"/>
              <a:chExt cx="534960" cy="311760"/>
            </a:xfrm>
          </p:grpSpPr>
          <p:sp>
            <p:nvSpPr>
              <p:cNvPr id="888" name="Rectangle 19"/>
              <p:cNvSpPr/>
              <p:nvPr/>
            </p:nvSpPr>
            <p:spPr>
              <a:xfrm>
                <a:off x="4154400" y="1513800"/>
                <a:ext cx="4611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Rectangle 51"/>
              <p:cNvSpPr/>
              <p:nvPr/>
            </p:nvSpPr>
            <p:spPr>
              <a:xfrm>
                <a:off x="4117320" y="1513800"/>
                <a:ext cx="53496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Group 54"/>
            <p:cNvGrpSpPr/>
            <p:nvPr/>
          </p:nvGrpSpPr>
          <p:grpSpPr>
            <a:xfrm>
              <a:off x="4652640" y="1513800"/>
              <a:ext cx="1518120" cy="311760"/>
              <a:chOff x="4652640" y="1513800"/>
              <a:chExt cx="1518120" cy="311760"/>
            </a:xfrm>
          </p:grpSpPr>
          <p:sp>
            <p:nvSpPr>
              <p:cNvPr id="891" name="Rectangle 20"/>
              <p:cNvSpPr/>
              <p:nvPr/>
            </p:nvSpPr>
            <p:spPr>
              <a:xfrm>
                <a:off x="4689720" y="1513800"/>
                <a:ext cx="14439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53"/>
              <p:cNvSpPr/>
              <p:nvPr/>
            </p:nvSpPr>
            <p:spPr>
              <a:xfrm>
                <a:off x="4652640" y="1513800"/>
                <a:ext cx="1518120" cy="31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56"/>
            <p:cNvGrpSpPr/>
            <p:nvPr/>
          </p:nvGrpSpPr>
          <p:grpSpPr>
            <a:xfrm>
              <a:off x="3272760" y="1825560"/>
              <a:ext cx="844200" cy="436320"/>
              <a:chOff x="3272760" y="1825560"/>
              <a:chExt cx="844200" cy="436320"/>
            </a:xfrm>
          </p:grpSpPr>
          <p:sp>
            <p:nvSpPr>
              <p:cNvPr id="894" name="Rectangle 22"/>
              <p:cNvSpPr/>
              <p:nvPr/>
            </p:nvSpPr>
            <p:spPr>
              <a:xfrm>
                <a:off x="3309840" y="1825560"/>
                <a:ext cx="77040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5"/>
              <p:cNvSpPr/>
              <p:nvPr/>
            </p:nvSpPr>
            <p:spPr>
              <a:xfrm>
                <a:off x="3272760" y="1825560"/>
                <a:ext cx="84420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58"/>
            <p:cNvGrpSpPr/>
            <p:nvPr/>
          </p:nvGrpSpPr>
          <p:grpSpPr>
            <a:xfrm>
              <a:off x="4117320" y="1825560"/>
              <a:ext cx="534960" cy="436320"/>
              <a:chOff x="4117320" y="1825560"/>
              <a:chExt cx="534960" cy="436320"/>
            </a:xfrm>
          </p:grpSpPr>
          <p:sp>
            <p:nvSpPr>
              <p:cNvPr id="897" name="Rectangle 23"/>
              <p:cNvSpPr/>
              <p:nvPr/>
            </p:nvSpPr>
            <p:spPr>
              <a:xfrm>
                <a:off x="4154400" y="1825560"/>
                <a:ext cx="4611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   «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57"/>
              <p:cNvSpPr/>
              <p:nvPr/>
            </p:nvSpPr>
            <p:spPr>
              <a:xfrm>
                <a:off x="4117320" y="1825560"/>
                <a:ext cx="53496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60"/>
            <p:cNvGrpSpPr/>
            <p:nvPr/>
          </p:nvGrpSpPr>
          <p:grpSpPr>
            <a:xfrm>
              <a:off x="4652640" y="1825560"/>
              <a:ext cx="1518120" cy="436320"/>
              <a:chOff x="4652640" y="1825560"/>
              <a:chExt cx="1518120" cy="436320"/>
            </a:xfrm>
          </p:grpSpPr>
          <p:sp>
            <p:nvSpPr>
              <p:cNvPr id="900" name="Rectangle 24"/>
              <p:cNvSpPr/>
              <p:nvPr/>
            </p:nvSpPr>
            <p:spPr>
              <a:xfrm>
                <a:off x="4689720" y="1825560"/>
                <a:ext cx="144396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59"/>
              <p:cNvSpPr/>
              <p:nvPr/>
            </p:nvSpPr>
            <p:spPr>
              <a:xfrm>
                <a:off x="4652640" y="1825560"/>
                <a:ext cx="1518120" cy="43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2" name="Rectangle 62"/>
          <p:cNvSpPr/>
          <p:nvPr/>
        </p:nvSpPr>
        <p:spPr>
          <a:xfrm>
            <a:off x="2057400" y="2514600"/>
            <a:ext cx="7086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-4. Tabla de simbolos para el programa de la figura 7-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ódi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ódigo de      Prim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Segundo    operación          Longitud de   Clase de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peración       operando      operando    hexadecimal     la instrucción  instr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71"/>
          <p:cNvSpPr/>
          <p:nvPr/>
        </p:nvSpPr>
        <p:spPr>
          <a:xfrm>
            <a:off x="0" y="44607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78"/>
          <p:cNvSpPr/>
          <p:nvPr/>
        </p:nvSpPr>
        <p:spPr>
          <a:xfrm>
            <a:off x="0" y="5222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85"/>
          <p:cNvSpPr/>
          <p:nvPr/>
        </p:nvSpPr>
        <p:spPr>
          <a:xfrm>
            <a:off x="0" y="5985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92"/>
          <p:cNvSpPr/>
          <p:nvPr/>
        </p:nvSpPr>
        <p:spPr>
          <a:xfrm>
            <a:off x="0" y="6858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99"/>
          <p:cNvSpPr/>
          <p:nvPr/>
        </p:nvSpPr>
        <p:spPr>
          <a:xfrm>
            <a:off x="0" y="7508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05"/>
          <p:cNvSpPr/>
          <p:nvPr/>
        </p:nvSpPr>
        <p:spPr>
          <a:xfrm>
            <a:off x="0" y="82710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Group 181"/>
          <p:cNvGrpSpPr/>
          <p:nvPr/>
        </p:nvGrpSpPr>
        <p:grpSpPr>
          <a:xfrm>
            <a:off x="533520" y="3429000"/>
            <a:ext cx="7923600" cy="2590920"/>
            <a:chOff x="533520" y="3429000"/>
            <a:chExt cx="7923600" cy="2590920"/>
          </a:xfrm>
        </p:grpSpPr>
        <p:sp>
          <p:nvSpPr>
            <p:cNvPr id="910" name="Rectangle 70"/>
            <p:cNvSpPr/>
            <p:nvPr/>
          </p:nvSpPr>
          <p:spPr>
            <a:xfrm>
              <a:off x="7043040" y="3429000"/>
              <a:ext cx="137448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Group 108"/>
            <p:cNvGrpSpPr/>
            <p:nvPr/>
          </p:nvGrpSpPr>
          <p:grpSpPr>
            <a:xfrm>
              <a:off x="533520" y="3429000"/>
              <a:ext cx="1387080" cy="2590920"/>
              <a:chOff x="533520" y="3429000"/>
              <a:chExt cx="1387080" cy="2590920"/>
            </a:xfrm>
          </p:grpSpPr>
          <p:sp>
            <p:nvSpPr>
              <p:cNvPr id="912" name="Rectangle 63"/>
              <p:cNvSpPr/>
              <p:nvPr/>
            </p:nvSpPr>
            <p:spPr>
              <a:xfrm>
                <a:off x="573480" y="3429000"/>
                <a:ext cx="1307160" cy="25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'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g.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07"/>
              <p:cNvSpPr/>
              <p:nvPr/>
            </p:nvSpPr>
            <p:spPr>
              <a:xfrm>
                <a:off x="533520" y="3429000"/>
                <a:ext cx="1387080" cy="259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110"/>
            <p:cNvGrpSpPr/>
            <p:nvPr/>
          </p:nvGrpSpPr>
          <p:grpSpPr>
            <a:xfrm>
              <a:off x="1920960" y="3429000"/>
              <a:ext cx="814680" cy="381240"/>
              <a:chOff x="1920960" y="3429000"/>
              <a:chExt cx="814680" cy="381240"/>
            </a:xfrm>
          </p:grpSpPr>
          <p:sp>
            <p:nvSpPr>
              <p:cNvPr id="915" name="Rectangle 64"/>
              <p:cNvSpPr/>
              <p:nvPr/>
            </p:nvSpPr>
            <p:spPr>
              <a:xfrm>
                <a:off x="1960200" y="3429000"/>
                <a:ext cx="735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109"/>
              <p:cNvSpPr/>
              <p:nvPr/>
            </p:nvSpPr>
            <p:spPr>
              <a:xfrm>
                <a:off x="1920960" y="3429000"/>
                <a:ext cx="81468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112"/>
            <p:cNvGrpSpPr/>
            <p:nvPr/>
          </p:nvGrpSpPr>
          <p:grpSpPr>
            <a:xfrm>
              <a:off x="2736360" y="3429000"/>
              <a:ext cx="825120" cy="381240"/>
              <a:chOff x="2736360" y="3429000"/>
              <a:chExt cx="825120" cy="381240"/>
            </a:xfrm>
          </p:grpSpPr>
          <p:sp>
            <p:nvSpPr>
              <p:cNvPr id="918" name="Rectangle 65"/>
              <p:cNvSpPr/>
              <p:nvPr/>
            </p:nvSpPr>
            <p:spPr>
              <a:xfrm>
                <a:off x="2776320" y="3429000"/>
                <a:ext cx="745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11"/>
              <p:cNvSpPr/>
              <p:nvPr/>
            </p:nvSpPr>
            <p:spPr>
              <a:xfrm>
                <a:off x="2736360" y="3429000"/>
                <a:ext cx="8251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114"/>
            <p:cNvGrpSpPr/>
            <p:nvPr/>
          </p:nvGrpSpPr>
          <p:grpSpPr>
            <a:xfrm>
              <a:off x="3561840" y="3429000"/>
              <a:ext cx="814680" cy="381240"/>
              <a:chOff x="3561840" y="3429000"/>
              <a:chExt cx="814680" cy="381240"/>
            </a:xfrm>
          </p:grpSpPr>
          <p:sp>
            <p:nvSpPr>
              <p:cNvPr id="921" name="Rectangle 66"/>
              <p:cNvSpPr/>
              <p:nvPr/>
            </p:nvSpPr>
            <p:spPr>
              <a:xfrm>
                <a:off x="3601800" y="3429000"/>
                <a:ext cx="735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113"/>
              <p:cNvSpPr/>
              <p:nvPr/>
            </p:nvSpPr>
            <p:spPr>
              <a:xfrm>
                <a:off x="3561840" y="3429000"/>
                <a:ext cx="81468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116"/>
            <p:cNvGrpSpPr/>
            <p:nvPr/>
          </p:nvGrpSpPr>
          <p:grpSpPr>
            <a:xfrm>
              <a:off x="4377240" y="3429000"/>
              <a:ext cx="966960" cy="381240"/>
              <a:chOff x="4377240" y="3429000"/>
              <a:chExt cx="966960" cy="381240"/>
            </a:xfrm>
          </p:grpSpPr>
          <p:sp>
            <p:nvSpPr>
              <p:cNvPr id="924" name="Rectangle 67"/>
              <p:cNvSpPr/>
              <p:nvPr/>
            </p:nvSpPr>
            <p:spPr>
              <a:xfrm>
                <a:off x="4417200" y="3429000"/>
                <a:ext cx="8870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115"/>
              <p:cNvSpPr/>
              <p:nvPr/>
            </p:nvSpPr>
            <p:spPr>
              <a:xfrm>
                <a:off x="4377240" y="3429000"/>
                <a:ext cx="96696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118"/>
            <p:cNvGrpSpPr/>
            <p:nvPr/>
          </p:nvGrpSpPr>
          <p:grpSpPr>
            <a:xfrm>
              <a:off x="5344920" y="3429000"/>
              <a:ext cx="832320" cy="381240"/>
              <a:chOff x="5344920" y="3429000"/>
              <a:chExt cx="832320" cy="381240"/>
            </a:xfrm>
          </p:grpSpPr>
          <p:sp>
            <p:nvSpPr>
              <p:cNvPr id="927" name="Rectangle 68"/>
              <p:cNvSpPr/>
              <p:nvPr/>
            </p:nvSpPr>
            <p:spPr>
              <a:xfrm>
                <a:off x="5384160" y="3429000"/>
                <a:ext cx="7534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117"/>
              <p:cNvSpPr/>
              <p:nvPr/>
            </p:nvSpPr>
            <p:spPr>
              <a:xfrm>
                <a:off x="5344920" y="3429000"/>
                <a:ext cx="8323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120"/>
            <p:cNvGrpSpPr/>
            <p:nvPr/>
          </p:nvGrpSpPr>
          <p:grpSpPr>
            <a:xfrm>
              <a:off x="6177600" y="3429000"/>
              <a:ext cx="825120" cy="381240"/>
              <a:chOff x="6177600" y="3429000"/>
              <a:chExt cx="825120" cy="381240"/>
            </a:xfrm>
          </p:grpSpPr>
          <p:sp>
            <p:nvSpPr>
              <p:cNvPr id="930" name="Rectangle 69"/>
              <p:cNvSpPr/>
              <p:nvPr/>
            </p:nvSpPr>
            <p:spPr>
              <a:xfrm>
                <a:off x="6217560" y="3429000"/>
                <a:ext cx="7455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119"/>
              <p:cNvSpPr/>
              <p:nvPr/>
            </p:nvSpPr>
            <p:spPr>
              <a:xfrm>
                <a:off x="6177600" y="3429000"/>
                <a:ext cx="825120" cy="3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Group 122"/>
            <p:cNvGrpSpPr/>
            <p:nvPr/>
          </p:nvGrpSpPr>
          <p:grpSpPr>
            <a:xfrm>
              <a:off x="1920960" y="3810240"/>
              <a:ext cx="814680" cy="357480"/>
              <a:chOff x="1920960" y="3810240"/>
              <a:chExt cx="814680" cy="357480"/>
            </a:xfrm>
          </p:grpSpPr>
          <p:sp>
            <p:nvSpPr>
              <p:cNvPr id="933" name="Rectangle 72"/>
              <p:cNvSpPr/>
              <p:nvPr/>
            </p:nvSpPr>
            <p:spPr>
              <a:xfrm>
                <a:off x="1960200" y="381024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21"/>
              <p:cNvSpPr/>
              <p:nvPr/>
            </p:nvSpPr>
            <p:spPr>
              <a:xfrm>
                <a:off x="1920960" y="381024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124"/>
            <p:cNvGrpSpPr/>
            <p:nvPr/>
          </p:nvGrpSpPr>
          <p:grpSpPr>
            <a:xfrm>
              <a:off x="2736360" y="3810240"/>
              <a:ext cx="825120" cy="357480"/>
              <a:chOff x="2736360" y="3810240"/>
              <a:chExt cx="825120" cy="357480"/>
            </a:xfrm>
          </p:grpSpPr>
          <p:sp>
            <p:nvSpPr>
              <p:cNvPr id="936" name="Rectangle 73"/>
              <p:cNvSpPr/>
              <p:nvPr/>
            </p:nvSpPr>
            <p:spPr>
              <a:xfrm>
                <a:off x="2776320" y="381024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123"/>
              <p:cNvSpPr/>
              <p:nvPr/>
            </p:nvSpPr>
            <p:spPr>
              <a:xfrm>
                <a:off x="2736360" y="381024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126"/>
            <p:cNvGrpSpPr/>
            <p:nvPr/>
          </p:nvGrpSpPr>
          <p:grpSpPr>
            <a:xfrm>
              <a:off x="3561840" y="3810240"/>
              <a:ext cx="814680" cy="357480"/>
              <a:chOff x="3561840" y="3810240"/>
              <a:chExt cx="814680" cy="357480"/>
            </a:xfrm>
          </p:grpSpPr>
          <p:sp>
            <p:nvSpPr>
              <p:cNvPr id="939" name="Rectangle 74"/>
              <p:cNvSpPr/>
              <p:nvPr/>
            </p:nvSpPr>
            <p:spPr>
              <a:xfrm>
                <a:off x="3601800" y="381024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MED3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125"/>
              <p:cNvSpPr/>
              <p:nvPr/>
            </p:nvSpPr>
            <p:spPr>
              <a:xfrm>
                <a:off x="3561840" y="381024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128"/>
            <p:cNvGrpSpPr/>
            <p:nvPr/>
          </p:nvGrpSpPr>
          <p:grpSpPr>
            <a:xfrm>
              <a:off x="4377240" y="3810240"/>
              <a:ext cx="966960" cy="357480"/>
              <a:chOff x="4377240" y="3810240"/>
              <a:chExt cx="966960" cy="357480"/>
            </a:xfrm>
          </p:grpSpPr>
          <p:sp>
            <p:nvSpPr>
              <p:cNvPr id="942" name="Rectangle 75"/>
              <p:cNvSpPr/>
              <p:nvPr/>
            </p:nvSpPr>
            <p:spPr>
              <a:xfrm>
                <a:off x="4417200" y="381024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127"/>
              <p:cNvSpPr/>
              <p:nvPr/>
            </p:nvSpPr>
            <p:spPr>
              <a:xfrm>
                <a:off x="4377240" y="381024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130"/>
            <p:cNvGrpSpPr/>
            <p:nvPr/>
          </p:nvGrpSpPr>
          <p:grpSpPr>
            <a:xfrm>
              <a:off x="5344920" y="3810240"/>
              <a:ext cx="832320" cy="357480"/>
              <a:chOff x="5344920" y="3810240"/>
              <a:chExt cx="832320" cy="357480"/>
            </a:xfrm>
          </p:grpSpPr>
          <p:sp>
            <p:nvSpPr>
              <p:cNvPr id="945" name="Rectangle 76"/>
              <p:cNvSpPr/>
              <p:nvPr/>
            </p:nvSpPr>
            <p:spPr>
              <a:xfrm>
                <a:off x="5384160" y="381024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129"/>
              <p:cNvSpPr/>
              <p:nvPr/>
            </p:nvSpPr>
            <p:spPr>
              <a:xfrm>
                <a:off x="5344920" y="381024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132"/>
            <p:cNvGrpSpPr/>
            <p:nvPr/>
          </p:nvGrpSpPr>
          <p:grpSpPr>
            <a:xfrm>
              <a:off x="6177600" y="3810240"/>
              <a:ext cx="825120" cy="357480"/>
              <a:chOff x="6177600" y="3810240"/>
              <a:chExt cx="825120" cy="357480"/>
            </a:xfrm>
          </p:grpSpPr>
          <p:sp>
            <p:nvSpPr>
              <p:cNvPr id="948" name="Rectangle 77"/>
              <p:cNvSpPr/>
              <p:nvPr/>
            </p:nvSpPr>
            <p:spPr>
              <a:xfrm>
                <a:off x="6217560" y="381024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131"/>
              <p:cNvSpPr/>
              <p:nvPr/>
            </p:nvSpPr>
            <p:spPr>
              <a:xfrm>
                <a:off x="6177600" y="381024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134"/>
            <p:cNvGrpSpPr/>
            <p:nvPr/>
          </p:nvGrpSpPr>
          <p:grpSpPr>
            <a:xfrm>
              <a:off x="1920960" y="4167720"/>
              <a:ext cx="814680" cy="357480"/>
              <a:chOff x="1920960" y="4167720"/>
              <a:chExt cx="814680" cy="357480"/>
            </a:xfrm>
          </p:grpSpPr>
          <p:sp>
            <p:nvSpPr>
              <p:cNvPr id="951" name="Rectangle 79"/>
              <p:cNvSpPr/>
              <p:nvPr/>
            </p:nvSpPr>
            <p:spPr>
              <a:xfrm>
                <a:off x="1960200" y="416772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Rectangle 133"/>
              <p:cNvSpPr/>
              <p:nvPr/>
            </p:nvSpPr>
            <p:spPr>
              <a:xfrm>
                <a:off x="1920960" y="416772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Group 136"/>
            <p:cNvGrpSpPr/>
            <p:nvPr/>
          </p:nvGrpSpPr>
          <p:grpSpPr>
            <a:xfrm>
              <a:off x="2736360" y="4167720"/>
              <a:ext cx="825120" cy="357480"/>
              <a:chOff x="2736360" y="4167720"/>
              <a:chExt cx="825120" cy="357480"/>
            </a:xfrm>
          </p:grpSpPr>
          <p:sp>
            <p:nvSpPr>
              <p:cNvPr id="954" name="Rectangle 80"/>
              <p:cNvSpPr/>
              <p:nvPr/>
            </p:nvSpPr>
            <p:spPr>
              <a:xfrm>
                <a:off x="2776320" y="416772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135"/>
              <p:cNvSpPr/>
              <p:nvPr/>
            </p:nvSpPr>
            <p:spPr>
              <a:xfrm>
                <a:off x="2736360" y="416772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138"/>
            <p:cNvGrpSpPr/>
            <p:nvPr/>
          </p:nvGrpSpPr>
          <p:grpSpPr>
            <a:xfrm>
              <a:off x="3561840" y="4167720"/>
              <a:ext cx="814680" cy="357480"/>
              <a:chOff x="3561840" y="4167720"/>
              <a:chExt cx="814680" cy="357480"/>
            </a:xfrm>
          </p:grpSpPr>
          <p:sp>
            <p:nvSpPr>
              <p:cNvPr id="957" name="Rectangle 81"/>
              <p:cNvSpPr/>
              <p:nvPr/>
            </p:nvSpPr>
            <p:spPr>
              <a:xfrm>
                <a:off x="3601800" y="416772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Rectangle 137"/>
              <p:cNvSpPr/>
              <p:nvPr/>
            </p:nvSpPr>
            <p:spPr>
              <a:xfrm>
                <a:off x="3561840" y="416772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Group 140"/>
            <p:cNvGrpSpPr/>
            <p:nvPr/>
          </p:nvGrpSpPr>
          <p:grpSpPr>
            <a:xfrm>
              <a:off x="4377240" y="4167720"/>
              <a:ext cx="966960" cy="357480"/>
              <a:chOff x="4377240" y="4167720"/>
              <a:chExt cx="966960" cy="357480"/>
            </a:xfrm>
          </p:grpSpPr>
          <p:sp>
            <p:nvSpPr>
              <p:cNvPr id="960" name="Rectangle 82"/>
              <p:cNvSpPr/>
              <p:nvPr/>
            </p:nvSpPr>
            <p:spPr>
              <a:xfrm>
                <a:off x="4417200" y="416772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Rectangle 139"/>
              <p:cNvSpPr/>
              <p:nvPr/>
            </p:nvSpPr>
            <p:spPr>
              <a:xfrm>
                <a:off x="4377240" y="416772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Group 142"/>
            <p:cNvGrpSpPr/>
            <p:nvPr/>
          </p:nvGrpSpPr>
          <p:grpSpPr>
            <a:xfrm>
              <a:off x="5344920" y="4167720"/>
              <a:ext cx="832320" cy="357480"/>
              <a:chOff x="5344920" y="4167720"/>
              <a:chExt cx="832320" cy="357480"/>
            </a:xfrm>
          </p:grpSpPr>
          <p:sp>
            <p:nvSpPr>
              <p:cNvPr id="963" name="Rectangle 83"/>
              <p:cNvSpPr/>
              <p:nvPr/>
            </p:nvSpPr>
            <p:spPr>
              <a:xfrm>
                <a:off x="5384160" y="416772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Rectangle 141"/>
              <p:cNvSpPr/>
              <p:nvPr/>
            </p:nvSpPr>
            <p:spPr>
              <a:xfrm>
                <a:off x="5344920" y="416772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Group 144"/>
            <p:cNvGrpSpPr/>
            <p:nvPr/>
          </p:nvGrpSpPr>
          <p:grpSpPr>
            <a:xfrm>
              <a:off x="6177600" y="4167720"/>
              <a:ext cx="825120" cy="357480"/>
              <a:chOff x="6177600" y="4167720"/>
              <a:chExt cx="825120" cy="357480"/>
            </a:xfrm>
          </p:grpSpPr>
          <p:sp>
            <p:nvSpPr>
              <p:cNvPr id="966" name="Rectangle 84"/>
              <p:cNvSpPr/>
              <p:nvPr/>
            </p:nvSpPr>
            <p:spPr>
              <a:xfrm>
                <a:off x="6217560" y="416772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143"/>
              <p:cNvSpPr/>
              <p:nvPr/>
            </p:nvSpPr>
            <p:spPr>
              <a:xfrm>
                <a:off x="6177600" y="416772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Group 146"/>
            <p:cNvGrpSpPr/>
            <p:nvPr/>
          </p:nvGrpSpPr>
          <p:grpSpPr>
            <a:xfrm>
              <a:off x="1920960" y="4525200"/>
              <a:ext cx="814680" cy="357480"/>
              <a:chOff x="1920960" y="4525200"/>
              <a:chExt cx="814680" cy="357480"/>
            </a:xfrm>
          </p:grpSpPr>
          <p:sp>
            <p:nvSpPr>
              <p:cNvPr id="969" name="Rectangle 86"/>
              <p:cNvSpPr/>
              <p:nvPr/>
            </p:nvSpPr>
            <p:spPr>
              <a:xfrm>
                <a:off x="1960200" y="452520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145"/>
              <p:cNvSpPr/>
              <p:nvPr/>
            </p:nvSpPr>
            <p:spPr>
              <a:xfrm>
                <a:off x="1920960" y="452520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Group 148"/>
            <p:cNvGrpSpPr/>
            <p:nvPr/>
          </p:nvGrpSpPr>
          <p:grpSpPr>
            <a:xfrm>
              <a:off x="2736360" y="4525200"/>
              <a:ext cx="825120" cy="357480"/>
              <a:chOff x="2736360" y="4525200"/>
              <a:chExt cx="825120" cy="357480"/>
            </a:xfrm>
          </p:grpSpPr>
          <p:sp>
            <p:nvSpPr>
              <p:cNvPr id="972" name="Rectangle 87"/>
              <p:cNvSpPr/>
              <p:nvPr/>
            </p:nvSpPr>
            <p:spPr>
              <a:xfrm>
                <a:off x="2776320" y="452520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147"/>
              <p:cNvSpPr/>
              <p:nvPr/>
            </p:nvSpPr>
            <p:spPr>
              <a:xfrm>
                <a:off x="2736360" y="452520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150"/>
            <p:cNvGrpSpPr/>
            <p:nvPr/>
          </p:nvGrpSpPr>
          <p:grpSpPr>
            <a:xfrm>
              <a:off x="3561840" y="4525200"/>
              <a:ext cx="814680" cy="357480"/>
              <a:chOff x="3561840" y="4525200"/>
              <a:chExt cx="814680" cy="357480"/>
            </a:xfrm>
          </p:grpSpPr>
          <p:sp>
            <p:nvSpPr>
              <p:cNvPr id="975" name="Rectangle 88"/>
              <p:cNvSpPr/>
              <p:nvPr/>
            </p:nvSpPr>
            <p:spPr>
              <a:xfrm>
                <a:off x="3601800" y="452520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MED3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149"/>
              <p:cNvSpPr/>
              <p:nvPr/>
            </p:nvSpPr>
            <p:spPr>
              <a:xfrm>
                <a:off x="3561840" y="452520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152"/>
            <p:cNvGrpSpPr/>
            <p:nvPr/>
          </p:nvGrpSpPr>
          <p:grpSpPr>
            <a:xfrm>
              <a:off x="4377240" y="4525200"/>
              <a:ext cx="966960" cy="357480"/>
              <a:chOff x="4377240" y="4525200"/>
              <a:chExt cx="966960" cy="357480"/>
            </a:xfrm>
          </p:grpSpPr>
          <p:sp>
            <p:nvSpPr>
              <p:cNvPr id="978" name="Rectangle 89"/>
              <p:cNvSpPr/>
              <p:nvPr/>
            </p:nvSpPr>
            <p:spPr>
              <a:xfrm>
                <a:off x="4417200" y="452520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151"/>
              <p:cNvSpPr/>
              <p:nvPr/>
            </p:nvSpPr>
            <p:spPr>
              <a:xfrm>
                <a:off x="4377240" y="452520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Group 154"/>
            <p:cNvGrpSpPr/>
            <p:nvPr/>
          </p:nvGrpSpPr>
          <p:grpSpPr>
            <a:xfrm>
              <a:off x="5344920" y="4525200"/>
              <a:ext cx="832320" cy="357480"/>
              <a:chOff x="5344920" y="4525200"/>
              <a:chExt cx="832320" cy="357480"/>
            </a:xfrm>
          </p:grpSpPr>
          <p:sp>
            <p:nvSpPr>
              <p:cNvPr id="981" name="Rectangle 90"/>
              <p:cNvSpPr/>
              <p:nvPr/>
            </p:nvSpPr>
            <p:spPr>
              <a:xfrm>
                <a:off x="5384160" y="452520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Rectangle 153"/>
              <p:cNvSpPr/>
              <p:nvPr/>
            </p:nvSpPr>
            <p:spPr>
              <a:xfrm>
                <a:off x="5344920" y="452520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6"/>
            <p:cNvGrpSpPr/>
            <p:nvPr/>
          </p:nvGrpSpPr>
          <p:grpSpPr>
            <a:xfrm>
              <a:off x="6177600" y="4525200"/>
              <a:ext cx="825120" cy="357480"/>
              <a:chOff x="6177600" y="4525200"/>
              <a:chExt cx="825120" cy="357480"/>
            </a:xfrm>
          </p:grpSpPr>
          <p:sp>
            <p:nvSpPr>
              <p:cNvPr id="984" name="Rectangle 91"/>
              <p:cNvSpPr/>
              <p:nvPr/>
            </p:nvSpPr>
            <p:spPr>
              <a:xfrm>
                <a:off x="6217560" y="452520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Rectangle 155"/>
              <p:cNvSpPr/>
              <p:nvPr/>
            </p:nvSpPr>
            <p:spPr>
              <a:xfrm>
                <a:off x="6177600" y="452520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158"/>
            <p:cNvGrpSpPr/>
            <p:nvPr/>
          </p:nvGrpSpPr>
          <p:grpSpPr>
            <a:xfrm>
              <a:off x="1920960" y="4882680"/>
              <a:ext cx="814680" cy="357480"/>
              <a:chOff x="1920960" y="4882680"/>
              <a:chExt cx="814680" cy="357480"/>
            </a:xfrm>
          </p:grpSpPr>
          <p:sp>
            <p:nvSpPr>
              <p:cNvPr id="987" name="Rectangle 93"/>
              <p:cNvSpPr/>
              <p:nvPr/>
            </p:nvSpPr>
            <p:spPr>
              <a:xfrm>
                <a:off x="1960200" y="488268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Rectangle 157"/>
              <p:cNvSpPr/>
              <p:nvPr/>
            </p:nvSpPr>
            <p:spPr>
              <a:xfrm>
                <a:off x="1920960" y="488268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160"/>
            <p:cNvGrpSpPr/>
            <p:nvPr/>
          </p:nvGrpSpPr>
          <p:grpSpPr>
            <a:xfrm>
              <a:off x="2736360" y="4882680"/>
              <a:ext cx="825120" cy="357480"/>
              <a:chOff x="2736360" y="4882680"/>
              <a:chExt cx="825120" cy="357480"/>
            </a:xfrm>
          </p:grpSpPr>
          <p:sp>
            <p:nvSpPr>
              <p:cNvPr id="990" name="Rectangle 94"/>
              <p:cNvSpPr/>
              <p:nvPr/>
            </p:nvSpPr>
            <p:spPr>
              <a:xfrm>
                <a:off x="2776320" y="4882680"/>
                <a:ext cx="7452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Rectangle 159"/>
              <p:cNvSpPr/>
              <p:nvPr/>
            </p:nvSpPr>
            <p:spPr>
              <a:xfrm>
                <a:off x="2736360" y="488268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Group 162"/>
            <p:cNvGrpSpPr/>
            <p:nvPr/>
          </p:nvGrpSpPr>
          <p:grpSpPr>
            <a:xfrm>
              <a:off x="3561840" y="4882680"/>
              <a:ext cx="814680" cy="357480"/>
              <a:chOff x="3561840" y="4882680"/>
              <a:chExt cx="814680" cy="357480"/>
            </a:xfrm>
          </p:grpSpPr>
          <p:sp>
            <p:nvSpPr>
              <p:cNvPr id="993" name="Rectangle 95"/>
              <p:cNvSpPr/>
              <p:nvPr/>
            </p:nvSpPr>
            <p:spPr>
              <a:xfrm>
                <a:off x="3601800" y="4882680"/>
                <a:ext cx="73512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Rectangle 161"/>
              <p:cNvSpPr/>
              <p:nvPr/>
            </p:nvSpPr>
            <p:spPr>
              <a:xfrm>
                <a:off x="3561840" y="4882680"/>
                <a:ext cx="81468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Group 164"/>
            <p:cNvGrpSpPr/>
            <p:nvPr/>
          </p:nvGrpSpPr>
          <p:grpSpPr>
            <a:xfrm>
              <a:off x="4377240" y="4882680"/>
              <a:ext cx="966960" cy="357480"/>
              <a:chOff x="4377240" y="4882680"/>
              <a:chExt cx="966960" cy="357480"/>
            </a:xfrm>
          </p:grpSpPr>
          <p:sp>
            <p:nvSpPr>
              <p:cNvPr id="996" name="Rectangle 96"/>
              <p:cNvSpPr/>
              <p:nvPr/>
            </p:nvSpPr>
            <p:spPr>
              <a:xfrm>
                <a:off x="4417200" y="4882680"/>
                <a:ext cx="88704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Rectangle 163"/>
              <p:cNvSpPr/>
              <p:nvPr/>
            </p:nvSpPr>
            <p:spPr>
              <a:xfrm>
                <a:off x="4377240" y="4882680"/>
                <a:ext cx="96696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166"/>
            <p:cNvGrpSpPr/>
            <p:nvPr/>
          </p:nvGrpSpPr>
          <p:grpSpPr>
            <a:xfrm>
              <a:off x="5344920" y="4882680"/>
              <a:ext cx="832320" cy="357480"/>
              <a:chOff x="5344920" y="4882680"/>
              <a:chExt cx="832320" cy="357480"/>
            </a:xfrm>
          </p:grpSpPr>
          <p:sp>
            <p:nvSpPr>
              <p:cNvPr id="999" name="Rectangle 97"/>
              <p:cNvSpPr/>
              <p:nvPr/>
            </p:nvSpPr>
            <p:spPr>
              <a:xfrm>
                <a:off x="5384160" y="4882680"/>
                <a:ext cx="7534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Rectangle 165"/>
              <p:cNvSpPr/>
              <p:nvPr/>
            </p:nvSpPr>
            <p:spPr>
              <a:xfrm>
                <a:off x="5344920" y="4882680"/>
                <a:ext cx="8323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Group 168"/>
            <p:cNvGrpSpPr/>
            <p:nvPr/>
          </p:nvGrpSpPr>
          <p:grpSpPr>
            <a:xfrm>
              <a:off x="6177600" y="4882680"/>
              <a:ext cx="825120" cy="357480"/>
              <a:chOff x="6177600" y="4882680"/>
              <a:chExt cx="825120" cy="357480"/>
            </a:xfrm>
          </p:grpSpPr>
          <p:sp>
            <p:nvSpPr>
              <p:cNvPr id="1002" name="Rectangle 98"/>
              <p:cNvSpPr/>
              <p:nvPr/>
            </p:nvSpPr>
            <p:spPr>
              <a:xfrm>
                <a:off x="6217560" y="4882680"/>
                <a:ext cx="74556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Rectangle 167"/>
              <p:cNvSpPr/>
              <p:nvPr/>
            </p:nvSpPr>
            <p:spPr>
              <a:xfrm>
                <a:off x="6177600" y="4882680"/>
                <a:ext cx="825120" cy="35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0"/>
            <p:cNvGrpSpPr/>
            <p:nvPr/>
          </p:nvGrpSpPr>
          <p:grpSpPr>
            <a:xfrm>
              <a:off x="1920960" y="5240520"/>
              <a:ext cx="814680" cy="413640"/>
              <a:chOff x="1920960" y="5240520"/>
              <a:chExt cx="814680" cy="413640"/>
            </a:xfrm>
          </p:grpSpPr>
          <p:sp>
            <p:nvSpPr>
              <p:cNvPr id="1005" name="Rectangle 100"/>
              <p:cNvSpPr/>
              <p:nvPr/>
            </p:nvSpPr>
            <p:spPr>
              <a:xfrm>
                <a:off x="1960200" y="5240520"/>
                <a:ext cx="7351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Rectangle 169"/>
              <p:cNvSpPr/>
              <p:nvPr/>
            </p:nvSpPr>
            <p:spPr>
              <a:xfrm>
                <a:off x="1920960" y="5240520"/>
                <a:ext cx="81468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Group 172"/>
            <p:cNvGrpSpPr/>
            <p:nvPr/>
          </p:nvGrpSpPr>
          <p:grpSpPr>
            <a:xfrm>
              <a:off x="2736360" y="5240520"/>
              <a:ext cx="1640160" cy="413640"/>
              <a:chOff x="2736360" y="5240520"/>
              <a:chExt cx="1640160" cy="413640"/>
            </a:xfrm>
          </p:grpSpPr>
          <p:sp>
            <p:nvSpPr>
              <p:cNvPr id="1008" name="Rectangle 101"/>
              <p:cNvSpPr/>
              <p:nvPr/>
            </p:nvSpPr>
            <p:spPr>
              <a:xfrm>
                <a:off x="2776320" y="5240520"/>
                <a:ext cx="15606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L                 =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171"/>
              <p:cNvSpPr/>
              <p:nvPr/>
            </p:nvSpPr>
            <p:spPr>
              <a:xfrm>
                <a:off x="2736360" y="5240520"/>
                <a:ext cx="164016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Group 174"/>
            <p:cNvGrpSpPr/>
            <p:nvPr/>
          </p:nvGrpSpPr>
          <p:grpSpPr>
            <a:xfrm>
              <a:off x="4377240" y="5240520"/>
              <a:ext cx="966960" cy="413640"/>
              <a:chOff x="4377240" y="5240520"/>
              <a:chExt cx="966960" cy="413640"/>
            </a:xfrm>
          </p:grpSpPr>
          <p:sp>
            <p:nvSpPr>
              <p:cNvPr id="1011" name="Rectangle 102"/>
              <p:cNvSpPr/>
              <p:nvPr/>
            </p:nvSpPr>
            <p:spPr>
              <a:xfrm>
                <a:off x="4417200" y="5240520"/>
                <a:ext cx="887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Rectangle 173"/>
              <p:cNvSpPr/>
              <p:nvPr/>
            </p:nvSpPr>
            <p:spPr>
              <a:xfrm>
                <a:off x="4377240" y="5240520"/>
                <a:ext cx="96696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Group 176"/>
            <p:cNvGrpSpPr/>
            <p:nvPr/>
          </p:nvGrpSpPr>
          <p:grpSpPr>
            <a:xfrm>
              <a:off x="5344920" y="5240520"/>
              <a:ext cx="832320" cy="413640"/>
              <a:chOff x="5344920" y="5240520"/>
              <a:chExt cx="832320" cy="413640"/>
            </a:xfrm>
          </p:grpSpPr>
          <p:sp>
            <p:nvSpPr>
              <p:cNvPr id="1014" name="Rectangle 103"/>
              <p:cNvSpPr/>
              <p:nvPr/>
            </p:nvSpPr>
            <p:spPr>
              <a:xfrm>
                <a:off x="5384160" y="5240520"/>
                <a:ext cx="753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Rectangle 175"/>
              <p:cNvSpPr/>
              <p:nvPr/>
            </p:nvSpPr>
            <p:spPr>
              <a:xfrm>
                <a:off x="5344920" y="5240520"/>
                <a:ext cx="83232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178"/>
            <p:cNvGrpSpPr/>
            <p:nvPr/>
          </p:nvGrpSpPr>
          <p:grpSpPr>
            <a:xfrm>
              <a:off x="6177600" y="5240520"/>
              <a:ext cx="825120" cy="413640"/>
              <a:chOff x="6177600" y="5240520"/>
              <a:chExt cx="825120" cy="413640"/>
            </a:xfrm>
          </p:grpSpPr>
          <p:sp>
            <p:nvSpPr>
              <p:cNvPr id="1017" name="Rectangle 104"/>
              <p:cNvSpPr/>
              <p:nvPr/>
            </p:nvSpPr>
            <p:spPr>
              <a:xfrm>
                <a:off x="6217560" y="5240520"/>
                <a:ext cx="7455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                  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Rectangle 177"/>
              <p:cNvSpPr/>
              <p:nvPr/>
            </p:nvSpPr>
            <p:spPr>
              <a:xfrm>
                <a:off x="6177600" y="5240520"/>
                <a:ext cx="825120" cy="41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Group 180"/>
            <p:cNvGrpSpPr/>
            <p:nvPr/>
          </p:nvGrpSpPr>
          <p:grpSpPr>
            <a:xfrm>
              <a:off x="1920960" y="5654160"/>
              <a:ext cx="6536160" cy="365400"/>
              <a:chOff x="1920960" y="5654160"/>
              <a:chExt cx="6536160" cy="365400"/>
            </a:xfrm>
          </p:grpSpPr>
          <p:sp>
            <p:nvSpPr>
              <p:cNvPr id="1020" name="Rectangle 106"/>
              <p:cNvSpPr/>
              <p:nvPr/>
            </p:nvSpPr>
            <p:spPr>
              <a:xfrm>
                <a:off x="1960200" y="5654160"/>
                <a:ext cx="6456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5. Extractos de una tabla de códigos de operación en un ensamblador 80386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179"/>
              <p:cNvSpPr/>
              <p:nvPr/>
            </p:nvSpPr>
            <p:spPr>
              <a:xfrm>
                <a:off x="1920960" y="5654160"/>
                <a:ext cx="653616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Rectangle 182"/>
          <p:cNvSpPr/>
          <p:nvPr/>
        </p:nvSpPr>
        <p:spPr>
          <a:xfrm>
            <a:off x="0" y="8497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380880" y="1905120"/>
            <a:ext cx="85345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° Pasada: </a:t>
            </a:r>
            <a:r>
              <a:rPr b="0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generar el programa objeto y de ser posible imprimir el listado del ensamblaj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errores comunes (pag 460)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533520" y="228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de Símbo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6019920" y="1752480"/>
            <a:ext cx="2719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o, fácil de      -program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533520" y="6858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ón: a) Vector de pares (*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4038480" y="1828800"/>
            <a:ext cx="18050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838080" y="2971800"/>
            <a:ext cx="784872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Ordenar tabla de N elementos y usar algoritmo de búsqueda binaria inten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dificación por transformación: Uso de una función de transformación que haga corresponder a cada símbolo un numero entre O y k-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) Memoria Asocia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2669760" y="182880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5029200" y="20574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2206080" y="251460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lineal,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3"/>
          <p:cNvSpPr/>
          <p:nvPr/>
        </p:nvSpPr>
        <p:spPr>
          <a:xfrm>
            <a:off x="609480" y="457200"/>
            <a:ext cx="784872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upar instrucciones y llamarlas c/vez que se necesi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una instrucción de llamada a otra de retorno.(ej. de 2 Ins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cros proporcionan una solución sencilla y eficiente al problema que plantean las secuencias idénticas o casi idénticas de instrucciones que se usan repetidamente en un program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91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92160" y="-770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9278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:</a:t>
            </a:r>
            <a:r>
              <a:rPr b="1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finición: Asignar un nombre a una porción de tex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3"/>
          <p:cNvSpPr/>
          <p:nvPr/>
        </p:nvSpPr>
        <p:spPr>
          <a:xfrm>
            <a:off x="92160" y="1135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762120" y="1523880"/>
            <a:ext cx="6583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O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Q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1981080" y="1752480"/>
            <a:ext cx="4648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92788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2895480" y="1523880"/>
            <a:ext cx="441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  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EAX.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EBX.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Q,EA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MOV P.EB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N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92160" y="540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0" y="3998880"/>
            <a:ext cx="9144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Encabezado de Macro —— nombr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exto que forma el cuerpo de la Macr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na instrucción de fin de Macr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2666880" y="1447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11"/>
          <p:cNvSpPr/>
          <p:nvPr/>
        </p:nvSpPr>
        <p:spPr>
          <a:xfrm>
            <a:off x="611280" y="42210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609480" y="838080"/>
            <a:ext cx="80010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Llamado: El uso del nombre de una macro como código de oper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Expansión: El reemplazo por el cuerpo de la Macro; este se traduce en el proceso de ensamblaje, no en el de ejecu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;</a:t>
            </a:r>
            <a:r>
              <a:rPr b="1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 la presencia de un programa en lenguaje de máquina es imposible decir si se han utilizado Macros en su gener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7b9899"/>
                </a:solidFill>
                <a:latin typeface="Georgia"/>
              </a:rPr>
              <a:t>Arquitectura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755640" y="1773360"/>
            <a:ext cx="2665440" cy="1584360"/>
          </a:xfrm>
          <a:prstGeom prst="foldedCorner">
            <a:avLst>
              <a:gd name="adj" fmla="val 1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!!ARBvp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PARAM arr[5]  = { program.env[0..4] }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#ADDRESS addr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ATTRIB v1 = vertex.attrib[1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PARAM par1 = program.local[0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Pos = result.posi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Col = result.color.front.primary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OUTPUT oTex = result.texcoord[2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ARL addr.x, v1.x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MOV res, arr[addr.x - 1]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139760" y="4362480"/>
            <a:ext cx="1871640" cy="122400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éxico – Sint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Flex + Bi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AutoShape 7"/>
          <p:cNvCxnSpPr>
            <a:stCxn id="608" idx="2"/>
            <a:endCxn id="609" idx="0"/>
          </p:cNvCxnSpPr>
          <p:nvPr/>
        </p:nvCxnSpPr>
        <p:spPr>
          <a:xfrm flipH="1">
            <a:off x="2075760" y="3357360"/>
            <a:ext cx="13320" cy="10054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11" name="AutoShape 8"/>
          <p:cNvCxnSpPr>
            <a:stCxn id="609" idx="3"/>
          </p:cNvCxnSpPr>
          <p:nvPr/>
        </p:nvCxnSpPr>
        <p:spPr>
          <a:xfrm flipV="1">
            <a:off x="3011400" y="4971240"/>
            <a:ext cx="380160" cy="396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12" name="Rectangle 9"/>
          <p:cNvSpPr/>
          <p:nvPr/>
        </p:nvSpPr>
        <p:spPr>
          <a:xfrm>
            <a:off x="4788000" y="4581360"/>
            <a:ext cx="1511280" cy="1008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mán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asi comple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30"/>
          <p:cNvGrpSpPr/>
          <p:nvPr/>
        </p:nvGrpSpPr>
        <p:grpSpPr>
          <a:xfrm>
            <a:off x="3276720" y="4076640"/>
            <a:ext cx="1105920" cy="1869840"/>
            <a:chOff x="3276720" y="4076640"/>
            <a:chExt cx="1105920" cy="1869840"/>
          </a:xfrm>
        </p:grpSpPr>
        <p:sp>
          <p:nvSpPr>
            <p:cNvPr id="614" name="Oval 10"/>
            <p:cNvSpPr/>
            <p:nvPr/>
          </p:nvSpPr>
          <p:spPr>
            <a:xfrm>
              <a:off x="3705480" y="45140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>
              <a:off x="3563640" y="495036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12"/>
            <p:cNvSpPr/>
            <p:nvPr/>
          </p:nvSpPr>
          <p:spPr>
            <a:xfrm>
              <a:off x="3846600" y="495036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AutoShape 16"/>
            <p:cNvCxnSpPr>
              <a:endCxn id="615" idx="7"/>
            </p:cNvCxnSpPr>
            <p:nvPr/>
          </p:nvCxnSpPr>
          <p:spPr>
            <a:xfrm flipH="1">
              <a:off x="3623040" y="463896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8" name="AutoShape 17"/>
            <p:cNvCxnSpPr>
              <a:stCxn id="614" idx="4"/>
              <a:endCxn id="616" idx="1"/>
            </p:cNvCxnSpPr>
            <p:nvPr/>
          </p:nvCxnSpPr>
          <p:spPr>
            <a:xfrm>
              <a:off x="3740400" y="4637880"/>
              <a:ext cx="116640" cy="33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9" name="Oval 18"/>
            <p:cNvSpPr/>
            <p:nvPr/>
          </p:nvSpPr>
          <p:spPr>
            <a:xfrm>
              <a:off x="3422520" y="538812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19"/>
            <p:cNvSpPr/>
            <p:nvPr/>
          </p:nvSpPr>
          <p:spPr>
            <a:xfrm>
              <a:off x="3705480" y="538812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1" name="AutoShape 20"/>
            <p:cNvCxnSpPr>
              <a:endCxn id="619" idx="7"/>
            </p:cNvCxnSpPr>
            <p:nvPr/>
          </p:nvCxnSpPr>
          <p:spPr>
            <a:xfrm flipH="1">
              <a:off x="3482280" y="507672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2" name="AutoShape 21"/>
            <p:cNvCxnSpPr>
              <a:endCxn id="620" idx="1"/>
            </p:cNvCxnSpPr>
            <p:nvPr/>
          </p:nvCxnSpPr>
          <p:spPr>
            <a:xfrm>
              <a:off x="3599280" y="5075280"/>
              <a:ext cx="116640" cy="33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3" name="Oval 22"/>
            <p:cNvSpPr/>
            <p:nvPr/>
          </p:nvSpPr>
          <p:spPr>
            <a:xfrm>
              <a:off x="3276720" y="58226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23"/>
            <p:cNvSpPr/>
            <p:nvPr/>
          </p:nvSpPr>
          <p:spPr>
            <a:xfrm>
              <a:off x="3559680" y="5822640"/>
              <a:ext cx="69840" cy="123840"/>
            </a:xfrm>
            <a:prstGeom prst="ellipse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AutoShape 24"/>
            <p:cNvCxnSpPr>
              <a:endCxn id="623" idx="7"/>
            </p:cNvCxnSpPr>
            <p:nvPr/>
          </p:nvCxnSpPr>
          <p:spPr>
            <a:xfrm flipH="1">
              <a:off x="3336120" y="5511960"/>
              <a:ext cx="117360" cy="32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6" name="AutoShape 25"/>
            <p:cNvCxnSpPr>
              <a:endCxn id="624" idx="1"/>
            </p:cNvCxnSpPr>
            <p:nvPr/>
          </p:nvCxnSpPr>
          <p:spPr>
            <a:xfrm>
              <a:off x="3453120" y="5510160"/>
              <a:ext cx="117000" cy="33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7" name="Rectangle 28"/>
            <p:cNvSpPr/>
            <p:nvPr/>
          </p:nvSpPr>
          <p:spPr>
            <a:xfrm>
              <a:off x="3569400" y="4461840"/>
              <a:ext cx="813240" cy="246240"/>
            </a:xfrm>
            <a:prstGeom prst="rect">
              <a:avLst/>
            </a:prstGeom>
            <a:solidFill>
              <a:srgbClr val="d16349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!!ARBvp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3604680" y="407664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9" name="AutoShape 31"/>
          <p:cNvCxnSpPr>
            <a:endCxn id="612" idx="1"/>
          </p:cNvCxnSpPr>
          <p:nvPr/>
        </p:nvCxnSpPr>
        <p:spPr>
          <a:xfrm flipV="1">
            <a:off x="4395600" y="5085720"/>
            <a:ext cx="392760" cy="684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30" name="AutoShape 32"/>
          <p:cNvCxnSpPr>
            <a:stCxn id="612" idx="0"/>
          </p:cNvCxnSpPr>
          <p:nvPr/>
        </p:nvCxnSpPr>
        <p:spPr>
          <a:xfrm flipH="1" flipV="1">
            <a:off x="4861080" y="3268440"/>
            <a:ext cx="682920" cy="13132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31" name="Rectangle 33"/>
          <p:cNvSpPr/>
          <p:nvPr/>
        </p:nvSpPr>
        <p:spPr>
          <a:xfrm>
            <a:off x="7020000" y="4724280"/>
            <a:ext cx="1224000" cy="719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ab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ímbo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AutoShape 34"/>
          <p:cNvCxnSpPr>
            <a:stCxn id="612" idx="3"/>
            <a:endCxn id="631" idx="1"/>
          </p:cNvCxnSpPr>
          <p:nvPr/>
        </p:nvCxnSpPr>
        <p:spPr>
          <a:xfrm flipV="1">
            <a:off x="6299280" y="5083920"/>
            <a:ext cx="721440" cy="252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33" name="Text Box 36"/>
          <p:cNvSpPr/>
          <p:nvPr/>
        </p:nvSpPr>
        <p:spPr>
          <a:xfrm>
            <a:off x="6372360" y="5445000"/>
            <a:ext cx="197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InsertarST(“arr”,5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NV_PARAME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1"/>
          <p:cNvGrpSpPr/>
          <p:nvPr/>
        </p:nvGrpSpPr>
        <p:grpSpPr>
          <a:xfrm>
            <a:off x="3708360" y="1773360"/>
            <a:ext cx="2301840" cy="1465200"/>
            <a:chOff x="3708360" y="1773360"/>
            <a:chExt cx="2301840" cy="1465200"/>
          </a:xfrm>
        </p:grpSpPr>
        <p:sp>
          <p:nvSpPr>
            <p:cNvPr id="635" name="Rectangle 38"/>
            <p:cNvSpPr/>
            <p:nvPr/>
          </p:nvSpPr>
          <p:spPr>
            <a:xfrm>
              <a:off x="3708360" y="1773360"/>
              <a:ext cx="1150920" cy="1465200"/>
            </a:xfrm>
            <a:prstGeom prst="rect">
              <a:avLst/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ódi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39"/>
            <p:cNvSpPr/>
            <p:nvPr/>
          </p:nvSpPr>
          <p:spPr>
            <a:xfrm>
              <a:off x="4859280" y="1773360"/>
              <a:ext cx="1150920" cy="718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9900"/>
                  </a:solidFill>
                  <a:latin typeface="Times New Roman"/>
                </a:rPr>
                <a:t>Específ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9900"/>
                  </a:solidFill>
                  <a:latin typeface="Times New Roman"/>
                </a:rPr>
                <a:t>G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0"/>
            <p:cNvSpPr/>
            <p:nvPr/>
          </p:nvSpPr>
          <p:spPr>
            <a:xfrm>
              <a:off x="4859280" y="2492280"/>
              <a:ext cx="1150920" cy="739440"/>
            </a:xfrm>
            <a:prstGeom prst="rect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Gené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8" name="AutoShape 43"/>
          <p:cNvCxnSpPr/>
          <p:nvPr/>
        </p:nvCxnSpPr>
        <p:spPr>
          <a:xfrm>
            <a:off x="5222520" y="3246120"/>
            <a:ext cx="2391480" cy="147852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cxnSp>
        <p:nvCxnSpPr>
          <p:cNvPr id="639" name="AutoShape 44"/>
          <p:cNvCxnSpPr>
            <a:stCxn id="636" idx="3"/>
          </p:cNvCxnSpPr>
          <p:nvPr/>
        </p:nvCxnSpPr>
        <p:spPr>
          <a:xfrm>
            <a:off x="6010200" y="2133720"/>
            <a:ext cx="308880" cy="3600"/>
          </a:xfrm>
          <a:prstGeom prst="straightConnector1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</p:cxnSp>
      <p:sp>
        <p:nvSpPr>
          <p:cNvPr id="640" name="AutoShape 45"/>
          <p:cNvSpPr/>
          <p:nvPr/>
        </p:nvSpPr>
        <p:spPr>
          <a:xfrm>
            <a:off x="6329520" y="1542960"/>
            <a:ext cx="2449440" cy="1824120"/>
          </a:xfrm>
          <a:prstGeom prst="foldedCorner">
            <a:avLst>
              <a:gd name="adj" fmla="val 1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Line:By0By1By2By3By4By5By6By7By8By9ByAByBByByDByEByF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1: 16 00 03 28 00 01 00 08 26 1b 6a 00 0f 1b 04 7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2: 09 00 03 00 00 00 02 08 24 1b 1b 00 08 1b 14 1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3: 09 00 04 00 00 00 02 08 24 1b 1b 00 04 1b 14 b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4: 09 00 05 00 00 00 02 08 24 1b 1b 00 02 1b 04 5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5: 09 00 06 00 00 00 02 08 24 1b 1b 00 01 1b 04 f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6: 16 00 01 00 00 00 02 30 24 1b 1b 00 08 1b 14 9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7: 16 00 02 00 00 01 02 30 24 1b 1b 00 08 1b 04 3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8: 16 00 00 00 00 00 03 30 24 00 1b 00 02 1b 04 d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19: 16 00 01 00 00 00 03 30 24 00 1b 00 01 1b 14 7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0: 01 00 08 00 00 08 18 08 24 04 ae 00 0c 1b 04 1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1: 17 00 00 00 00 00 13 30 24 00 00 00 08 1b 04 b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2: 17 00 01 00 00 00 13 30 24 00 00 00 04 1b 14 5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3: 01 00 08 00 00 09 18 08 24 04 04 00 0c 1b 14 f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4: 01 00 08 00 00 0a 18 08 26 04 ae 00 0c 1b 04 9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025: 01 00 08 00 00 0b 18 08 26 04 04 00 0c 1b 14 38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2514600" y="228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CROS Vs. PROCEDIMIENTOS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"/>
          <p:cNvSpPr/>
          <p:nvPr/>
        </p:nvSpPr>
        <p:spPr>
          <a:xfrm>
            <a:off x="5715000" y="6094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lamada 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1523880" y="762120"/>
            <a:ext cx="12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í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5"/>
          <p:cNvSpPr/>
          <p:nvPr/>
        </p:nvSpPr>
        <p:spPr>
          <a:xfrm>
            <a:off x="3581280" y="8380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lamada a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6"/>
          <p:cNvGrpSpPr/>
          <p:nvPr/>
        </p:nvGrpSpPr>
        <p:grpSpPr>
          <a:xfrm>
            <a:off x="533520" y="1371600"/>
            <a:ext cx="7999200" cy="4762080"/>
            <a:chOff x="533520" y="1371600"/>
            <a:chExt cx="7999200" cy="4762080"/>
          </a:xfrm>
        </p:grpSpPr>
        <p:grpSp>
          <p:nvGrpSpPr>
            <p:cNvPr id="1049" name="Group 7"/>
            <p:cNvGrpSpPr/>
            <p:nvPr/>
          </p:nvGrpSpPr>
          <p:grpSpPr>
            <a:xfrm>
              <a:off x="533520" y="1371600"/>
              <a:ext cx="3068640" cy="879840"/>
              <a:chOff x="533520" y="1371600"/>
              <a:chExt cx="3068640" cy="879840"/>
            </a:xfrm>
          </p:grpSpPr>
          <p:sp>
            <p:nvSpPr>
              <p:cNvPr id="1050" name="Rectangle 8"/>
              <p:cNvSpPr/>
              <p:nvPr/>
            </p:nvSpPr>
            <p:spPr>
              <a:xfrm>
                <a:off x="607680" y="1371600"/>
                <a:ext cx="291996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mento en al que (e h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9"/>
              <p:cNvSpPr/>
              <p:nvPr/>
            </p:nvSpPr>
            <p:spPr>
              <a:xfrm>
                <a:off x="533520" y="1371600"/>
                <a:ext cx="30686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Group 10"/>
            <p:cNvGrpSpPr/>
            <p:nvPr/>
          </p:nvGrpSpPr>
          <p:grpSpPr>
            <a:xfrm>
              <a:off x="3602880" y="1371600"/>
              <a:ext cx="2515680" cy="879840"/>
              <a:chOff x="3602880" y="1371600"/>
              <a:chExt cx="2515680" cy="879840"/>
            </a:xfrm>
          </p:grpSpPr>
          <p:sp>
            <p:nvSpPr>
              <p:cNvPr id="1053" name="Rectangle 11"/>
              <p:cNvSpPr/>
              <p:nvPr/>
            </p:nvSpPr>
            <p:spPr>
              <a:xfrm>
                <a:off x="3675960" y="1371600"/>
                <a:ext cx="236808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ante al ensamblaj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12"/>
              <p:cNvSpPr/>
              <p:nvPr/>
            </p:nvSpPr>
            <p:spPr>
              <a:xfrm>
                <a:off x="3602880" y="1371600"/>
                <a:ext cx="251568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13"/>
            <p:cNvGrpSpPr/>
            <p:nvPr/>
          </p:nvGrpSpPr>
          <p:grpSpPr>
            <a:xfrm>
              <a:off x="6119280" y="1371600"/>
              <a:ext cx="2413440" cy="879840"/>
              <a:chOff x="6119280" y="1371600"/>
              <a:chExt cx="2413440" cy="879840"/>
            </a:xfrm>
          </p:grpSpPr>
          <p:sp>
            <p:nvSpPr>
              <p:cNvPr id="1056" name="Rectangle 14"/>
              <p:cNvSpPr/>
              <p:nvPr/>
            </p:nvSpPr>
            <p:spPr>
              <a:xfrm>
                <a:off x="6192360" y="1371600"/>
                <a:ext cx="226692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en» le ejecución d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Rectangle 15"/>
              <p:cNvSpPr/>
              <p:nvPr/>
            </p:nvSpPr>
            <p:spPr>
              <a:xfrm>
                <a:off x="6119280" y="1371600"/>
                <a:ext cx="24134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Group 16"/>
            <p:cNvGrpSpPr/>
            <p:nvPr/>
          </p:nvGrpSpPr>
          <p:grpSpPr>
            <a:xfrm>
              <a:off x="533520" y="2251440"/>
              <a:ext cx="3068640" cy="970560"/>
              <a:chOff x="533520" y="2251440"/>
              <a:chExt cx="3068640" cy="970560"/>
            </a:xfrm>
          </p:grpSpPr>
          <p:sp>
            <p:nvSpPr>
              <p:cNvPr id="1059" name="Rectangle 17"/>
              <p:cNvSpPr/>
              <p:nvPr/>
            </p:nvSpPr>
            <p:spPr>
              <a:xfrm>
                <a:off x="607680" y="2251440"/>
                <a:ext cx="291996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 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erpo se inserta en el programa objeto en todos los sitios donde aparece el nomb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18"/>
              <p:cNvSpPr/>
              <p:nvPr/>
            </p:nvSpPr>
            <p:spPr>
              <a:xfrm>
                <a:off x="533520" y="2251440"/>
                <a:ext cx="306864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9"/>
            <p:cNvGrpSpPr/>
            <p:nvPr/>
          </p:nvGrpSpPr>
          <p:grpSpPr>
            <a:xfrm>
              <a:off x="3602880" y="2251440"/>
              <a:ext cx="2515680" cy="970560"/>
              <a:chOff x="3602880" y="2251440"/>
              <a:chExt cx="2515680" cy="970560"/>
            </a:xfrm>
          </p:grpSpPr>
          <p:sp>
            <p:nvSpPr>
              <p:cNvPr id="1062" name="Rectangle 20"/>
              <p:cNvSpPr/>
              <p:nvPr/>
            </p:nvSpPr>
            <p:spPr>
              <a:xfrm>
                <a:off x="3675960" y="2251440"/>
                <a:ext cx="236808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21"/>
              <p:cNvSpPr/>
              <p:nvPr/>
            </p:nvSpPr>
            <p:spPr>
              <a:xfrm>
                <a:off x="3602880" y="2251440"/>
                <a:ext cx="251568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6119280" y="2251440"/>
              <a:ext cx="2413440" cy="970560"/>
              <a:chOff x="6119280" y="2251440"/>
              <a:chExt cx="2413440" cy="970560"/>
            </a:xfrm>
          </p:grpSpPr>
          <p:sp>
            <p:nvSpPr>
              <p:cNvPr id="1065" name="Rectangle 23"/>
              <p:cNvSpPr/>
              <p:nvPr/>
            </p:nvSpPr>
            <p:spPr>
              <a:xfrm>
                <a:off x="6192360" y="2251440"/>
                <a:ext cx="2266920" cy="9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24"/>
              <p:cNvSpPr/>
              <p:nvPr/>
            </p:nvSpPr>
            <p:spPr>
              <a:xfrm>
                <a:off x="6119280" y="2251440"/>
                <a:ext cx="2413440" cy="970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25"/>
            <p:cNvGrpSpPr/>
            <p:nvPr/>
          </p:nvGrpSpPr>
          <p:grpSpPr>
            <a:xfrm>
              <a:off x="533520" y="3222360"/>
              <a:ext cx="3068640" cy="970200"/>
              <a:chOff x="533520" y="3222360"/>
              <a:chExt cx="3068640" cy="970200"/>
            </a:xfrm>
          </p:grpSpPr>
          <p:sp>
            <p:nvSpPr>
              <p:cNvPr id="1068" name="Rectangle 26"/>
              <p:cNvSpPr/>
              <p:nvPr/>
            </p:nvSpPr>
            <p:spPr>
              <a:xfrm>
                <a:off x="607680" y="3222360"/>
                <a:ext cx="291996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 una instrucción de llamada a procedimiento insertada en 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27"/>
              <p:cNvSpPr/>
              <p:nvPr/>
            </p:nvSpPr>
            <p:spPr>
              <a:xfrm>
                <a:off x="533520" y="3222360"/>
                <a:ext cx="306864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28"/>
            <p:cNvGrpSpPr/>
            <p:nvPr/>
          </p:nvGrpSpPr>
          <p:grpSpPr>
            <a:xfrm>
              <a:off x="3602880" y="3222360"/>
              <a:ext cx="2515680" cy="970200"/>
              <a:chOff x="3602880" y="3222360"/>
              <a:chExt cx="2515680" cy="970200"/>
            </a:xfrm>
          </p:grpSpPr>
          <p:sp>
            <p:nvSpPr>
              <p:cNvPr id="1071" name="Rectangle 29"/>
              <p:cNvSpPr/>
              <p:nvPr/>
            </p:nvSpPr>
            <p:spPr>
              <a:xfrm>
                <a:off x="3675960" y="3222360"/>
                <a:ext cx="236808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30"/>
              <p:cNvSpPr/>
              <p:nvPr/>
            </p:nvSpPr>
            <p:spPr>
              <a:xfrm>
                <a:off x="3602880" y="3222360"/>
                <a:ext cx="251568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31"/>
            <p:cNvGrpSpPr/>
            <p:nvPr/>
          </p:nvGrpSpPr>
          <p:grpSpPr>
            <a:xfrm>
              <a:off x="6119280" y="3222360"/>
              <a:ext cx="2413440" cy="970200"/>
              <a:chOff x="6119280" y="3222360"/>
              <a:chExt cx="2413440" cy="970200"/>
            </a:xfrm>
          </p:grpSpPr>
          <p:sp>
            <p:nvSpPr>
              <p:cNvPr id="1074" name="Rectangle 32"/>
              <p:cNvSpPr/>
              <p:nvPr/>
            </p:nvSpPr>
            <p:spPr>
              <a:xfrm>
                <a:off x="6192360" y="3222360"/>
                <a:ext cx="2266920" cy="9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33"/>
              <p:cNvSpPr/>
              <p:nvPr/>
            </p:nvSpPr>
            <p:spPr>
              <a:xfrm>
                <a:off x="6119280" y="3222360"/>
                <a:ext cx="2413440" cy="97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34"/>
            <p:cNvGrpSpPr/>
            <p:nvPr/>
          </p:nvGrpSpPr>
          <p:grpSpPr>
            <a:xfrm>
              <a:off x="533520" y="4192560"/>
              <a:ext cx="3068640" cy="1060920"/>
              <a:chOff x="533520" y="4192560"/>
              <a:chExt cx="3068640" cy="1060920"/>
            </a:xfrm>
          </p:grpSpPr>
          <p:sp>
            <p:nvSpPr>
              <p:cNvPr id="1077" name="Rectangle 35"/>
              <p:cNvSpPr/>
              <p:nvPr/>
            </p:nvSpPr>
            <p:spPr>
              <a:xfrm>
                <a:off x="607680" y="4192560"/>
                <a:ext cx="291996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be usarse una Instrucción retomo para devolver el control a la sentencia que sigue a la llam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36"/>
              <p:cNvSpPr/>
              <p:nvPr/>
            </p:nvSpPr>
            <p:spPr>
              <a:xfrm>
                <a:off x="533520" y="4192560"/>
                <a:ext cx="306864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37"/>
            <p:cNvGrpSpPr/>
            <p:nvPr/>
          </p:nvGrpSpPr>
          <p:grpSpPr>
            <a:xfrm>
              <a:off x="3602880" y="4192560"/>
              <a:ext cx="2515680" cy="1060920"/>
              <a:chOff x="3602880" y="4192560"/>
              <a:chExt cx="2515680" cy="1060920"/>
            </a:xfrm>
          </p:grpSpPr>
          <p:sp>
            <p:nvSpPr>
              <p:cNvPr id="1080" name="Rectangle 38"/>
              <p:cNvSpPr/>
              <p:nvPr/>
            </p:nvSpPr>
            <p:spPr>
              <a:xfrm>
                <a:off x="3675960" y="4192560"/>
                <a:ext cx="236808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39"/>
              <p:cNvSpPr/>
              <p:nvPr/>
            </p:nvSpPr>
            <p:spPr>
              <a:xfrm>
                <a:off x="3602880" y="4192560"/>
                <a:ext cx="251568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40"/>
            <p:cNvGrpSpPr/>
            <p:nvPr/>
          </p:nvGrpSpPr>
          <p:grpSpPr>
            <a:xfrm>
              <a:off x="6119280" y="4192560"/>
              <a:ext cx="2413440" cy="1060920"/>
              <a:chOff x="6119280" y="4192560"/>
              <a:chExt cx="2413440" cy="1060920"/>
            </a:xfrm>
          </p:grpSpPr>
          <p:sp>
            <p:nvSpPr>
              <p:cNvPr id="1083" name="Rectangle 41"/>
              <p:cNvSpPr/>
              <p:nvPr/>
            </p:nvSpPr>
            <p:spPr>
              <a:xfrm>
                <a:off x="6192360" y="4192560"/>
                <a:ext cx="2266920" cy="106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42"/>
              <p:cNvSpPr/>
              <p:nvPr/>
            </p:nvSpPr>
            <p:spPr>
              <a:xfrm>
                <a:off x="6119280" y="4192560"/>
                <a:ext cx="2413440" cy="106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43"/>
            <p:cNvGrpSpPr/>
            <p:nvPr/>
          </p:nvGrpSpPr>
          <p:grpSpPr>
            <a:xfrm>
              <a:off x="533520" y="5253840"/>
              <a:ext cx="3068640" cy="879840"/>
              <a:chOff x="533520" y="5253840"/>
              <a:chExt cx="3068640" cy="879840"/>
            </a:xfrm>
          </p:grpSpPr>
          <p:sp>
            <p:nvSpPr>
              <p:cNvPr id="1086" name="Rectangle 44"/>
              <p:cNvSpPr/>
              <p:nvPr/>
            </p:nvSpPr>
            <p:spPr>
              <a:xfrm>
                <a:off x="607680" y="5253840"/>
                <a:ext cx="291996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umero de copia» del cuerpo que aparecen en el 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45"/>
              <p:cNvSpPr/>
              <p:nvPr/>
            </p:nvSpPr>
            <p:spPr>
              <a:xfrm>
                <a:off x="533520" y="5253840"/>
                <a:ext cx="30686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46"/>
            <p:cNvGrpSpPr/>
            <p:nvPr/>
          </p:nvGrpSpPr>
          <p:grpSpPr>
            <a:xfrm>
              <a:off x="3602880" y="5253840"/>
              <a:ext cx="2515680" cy="879840"/>
              <a:chOff x="3602880" y="5253840"/>
              <a:chExt cx="2515680" cy="879840"/>
            </a:xfrm>
          </p:grpSpPr>
          <p:sp>
            <p:nvSpPr>
              <p:cNvPr id="1089" name="Rectangle 47"/>
              <p:cNvSpPr/>
              <p:nvPr/>
            </p:nvSpPr>
            <p:spPr>
              <a:xfrm>
                <a:off x="3675960" y="5253840"/>
                <a:ext cx="236808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a por cada llamada a la mac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48"/>
              <p:cNvSpPr/>
              <p:nvPr/>
            </p:nvSpPr>
            <p:spPr>
              <a:xfrm>
                <a:off x="3602880" y="5253840"/>
                <a:ext cx="251568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49"/>
            <p:cNvGrpSpPr/>
            <p:nvPr/>
          </p:nvGrpSpPr>
          <p:grpSpPr>
            <a:xfrm>
              <a:off x="6119280" y="5253840"/>
              <a:ext cx="2413440" cy="879840"/>
              <a:chOff x="6119280" y="5253840"/>
              <a:chExt cx="2413440" cy="879840"/>
            </a:xfrm>
          </p:grpSpPr>
          <p:sp>
            <p:nvSpPr>
              <p:cNvPr id="1092" name="Rectangle 50"/>
              <p:cNvSpPr/>
              <p:nvPr/>
            </p:nvSpPr>
            <p:spPr>
              <a:xfrm>
                <a:off x="6192360" y="5253840"/>
                <a:ext cx="2266920" cy="87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51"/>
              <p:cNvSpPr/>
              <p:nvPr/>
            </p:nvSpPr>
            <p:spPr>
              <a:xfrm>
                <a:off x="6119280" y="5253840"/>
                <a:ext cx="2413440" cy="8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4" name="Rectangle 52"/>
          <p:cNvSpPr/>
          <p:nvPr/>
        </p:nvSpPr>
        <p:spPr>
          <a:xfrm>
            <a:off x="5335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». 7-10. Comparación entre llamada* a macro y a procedi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609480" y="0"/>
            <a:ext cx="746784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71836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s con Parámetro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ámetros fo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ámetros re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0" y="246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4"/>
          <p:cNvSpPr/>
          <p:nvPr/>
        </p:nvSpPr>
        <p:spPr>
          <a:xfrm>
            <a:off x="685800" y="2819520"/>
            <a:ext cx="1790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Q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AX.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EBX.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S.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R.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0" y="205416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271836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4952880" y="2666880"/>
            <a:ext cx="115092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1,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AX.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BX.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2.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1.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7"/>
          <p:cNvSpPr/>
          <p:nvPr/>
        </p:nvSpPr>
        <p:spPr>
          <a:xfrm>
            <a:off x="0" y="6006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8"/>
          <p:cNvSpPr/>
          <p:nvPr/>
        </p:nvSpPr>
        <p:spPr>
          <a:xfrm>
            <a:off x="2971800" y="3048120"/>
            <a:ext cx="1676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HANCE P, Q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HANCE R,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9"/>
          <p:cNvSpPr/>
          <p:nvPr/>
        </p:nvSpPr>
        <p:spPr>
          <a:xfrm>
            <a:off x="228600" y="5743440"/>
            <a:ext cx="8153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g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1. Secuencias casi idénticas de instrucciones, (a) Sin macro. (b) Con una macro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10"/>
          <p:cNvSpPr/>
          <p:nvPr/>
        </p:nvSpPr>
        <p:spPr>
          <a:xfrm>
            <a:off x="2971800" y="259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HANCE MA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1"/>
          <p:cNvSpPr/>
          <p:nvPr/>
        </p:nvSpPr>
        <p:spPr>
          <a:xfrm>
            <a:off x="0" y="2589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12"/>
          <p:cNvSpPr/>
          <p:nvPr/>
        </p:nvSpPr>
        <p:spPr>
          <a:xfrm>
            <a:off x="2639880" y="3295800"/>
            <a:ext cx="3760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3"/>
          <p:cNvSpPr/>
          <p:nvPr/>
        </p:nvSpPr>
        <p:spPr>
          <a:xfrm>
            <a:off x="0" y="37130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1110600" y="51436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a)                                              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"/>
          <p:cNvSpPr/>
          <p:nvPr/>
        </p:nvSpPr>
        <p:spPr>
          <a:xfrm>
            <a:off x="0" y="-100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0" y="2446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"/>
          <p:cNvSpPr/>
          <p:nvPr/>
        </p:nvSpPr>
        <p:spPr>
          <a:xfrm>
            <a:off x="0" y="3208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"/>
          <p:cNvSpPr/>
          <p:nvPr/>
        </p:nvSpPr>
        <p:spPr>
          <a:xfrm>
            <a:off x="0" y="3970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0" y="4732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0" y="5494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8"/>
          <p:cNvSpPr/>
          <p:nvPr/>
        </p:nvSpPr>
        <p:spPr>
          <a:xfrm>
            <a:off x="0" y="6256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9"/>
          <p:cNvSpPr/>
          <p:nvPr/>
        </p:nvSpPr>
        <p:spPr>
          <a:xfrm>
            <a:off x="0" y="7018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457200" y="1295280"/>
            <a:ext cx="7771320" cy="5105520"/>
            <a:chOff x="457200" y="1295280"/>
            <a:chExt cx="7771320" cy="5105520"/>
          </a:xfrm>
        </p:grpSpPr>
        <p:grpSp>
          <p:nvGrpSpPr>
            <p:cNvPr id="1117" name="Group 11"/>
            <p:cNvGrpSpPr/>
            <p:nvPr/>
          </p:nvGrpSpPr>
          <p:grpSpPr>
            <a:xfrm>
              <a:off x="457200" y="1295280"/>
              <a:ext cx="650160" cy="5105520"/>
              <a:chOff x="457200" y="1295280"/>
              <a:chExt cx="650160" cy="5105520"/>
            </a:xfrm>
          </p:grpSpPr>
          <p:sp>
            <p:nvSpPr>
              <p:cNvPr id="1118" name="Rectangle 12"/>
              <p:cNvSpPr/>
              <p:nvPr/>
            </p:nvSpPr>
            <p:spPr>
              <a:xfrm>
                <a:off x="493560" y="1295280"/>
                <a:ext cx="577440" cy="51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Rectangle 13"/>
              <p:cNvSpPr/>
              <p:nvPr/>
            </p:nvSpPr>
            <p:spPr>
              <a:xfrm>
                <a:off x="457200" y="1295280"/>
                <a:ext cx="650160" cy="51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14"/>
            <p:cNvGrpSpPr/>
            <p:nvPr/>
          </p:nvGrpSpPr>
          <p:grpSpPr>
            <a:xfrm>
              <a:off x="1107720" y="1295280"/>
              <a:ext cx="7120800" cy="495000"/>
              <a:chOff x="1107720" y="1295280"/>
              <a:chExt cx="7120800" cy="495000"/>
            </a:xfrm>
          </p:grpSpPr>
          <p:sp>
            <p:nvSpPr>
              <p:cNvPr id="1121" name="Rectangle 15"/>
              <p:cNvSpPr/>
              <p:nvPr/>
            </p:nvSpPr>
            <p:spPr>
              <a:xfrm>
                <a:off x="1144080" y="1295280"/>
                <a:ext cx="704808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ructura de un módulo obje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Rectangle 16"/>
              <p:cNvSpPr/>
              <p:nvPr/>
            </p:nvSpPr>
            <p:spPr>
              <a:xfrm>
                <a:off x="1107720" y="1295280"/>
                <a:ext cx="7120800" cy="49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Group 17"/>
            <p:cNvGrpSpPr/>
            <p:nvPr/>
          </p:nvGrpSpPr>
          <p:grpSpPr>
            <a:xfrm>
              <a:off x="1107720" y="1790280"/>
              <a:ext cx="2081880" cy="476280"/>
              <a:chOff x="1107720" y="1790280"/>
              <a:chExt cx="2081880" cy="476280"/>
            </a:xfrm>
          </p:grpSpPr>
          <p:sp>
            <p:nvSpPr>
              <p:cNvPr id="1124" name="Rectangle 18"/>
              <p:cNvSpPr/>
              <p:nvPr/>
            </p:nvSpPr>
            <p:spPr>
              <a:xfrm>
                <a:off x="1144080" y="1790280"/>
                <a:ext cx="20091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Rectangle 19"/>
              <p:cNvSpPr/>
              <p:nvPr/>
            </p:nvSpPr>
            <p:spPr>
              <a:xfrm>
                <a:off x="1107720" y="1790280"/>
                <a:ext cx="2081880" cy="47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Group 20"/>
            <p:cNvGrpSpPr/>
            <p:nvPr/>
          </p:nvGrpSpPr>
          <p:grpSpPr>
            <a:xfrm>
              <a:off x="3190320" y="1790280"/>
              <a:ext cx="5038200" cy="4610160"/>
              <a:chOff x="3190320" y="1790280"/>
              <a:chExt cx="5038200" cy="4610160"/>
            </a:xfrm>
          </p:grpSpPr>
          <p:sp>
            <p:nvSpPr>
              <p:cNvPr id="1127" name="Rectangle 21"/>
              <p:cNvSpPr/>
              <p:nvPr/>
            </p:nvSpPr>
            <p:spPr>
              <a:xfrm>
                <a:off x="3226680" y="1790280"/>
                <a:ext cx="4965480" cy="461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- Nombre, longitud, fec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- Lista de símbolos definidos en el módulo a los que otros módulos pueden hacer referencia (junto con su dirección) para identificarlos el programador usa una pseudo instrucciones de pto. de entrada o símbolo externos — »• tabla de pto. de entrad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- Lista de los símbolos que usa, pero que está definido en otros módulos, junto con otra que dice que instrucciones usa c/u de esos símbolos —— &gt;• tabla de referencia extern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Rectangle 22"/>
              <p:cNvSpPr/>
              <p:nvPr/>
            </p:nvSpPr>
            <p:spPr>
              <a:xfrm>
                <a:off x="3190320" y="1790280"/>
                <a:ext cx="5038200" cy="4610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23"/>
            <p:cNvGrpSpPr/>
            <p:nvPr/>
          </p:nvGrpSpPr>
          <p:grpSpPr>
            <a:xfrm>
              <a:off x="1107720" y="2266920"/>
              <a:ext cx="2081880" cy="495360"/>
              <a:chOff x="1107720" y="2266920"/>
              <a:chExt cx="2081880" cy="495360"/>
            </a:xfrm>
          </p:grpSpPr>
          <p:sp>
            <p:nvSpPr>
              <p:cNvPr id="1130" name="Rectangle 24"/>
              <p:cNvSpPr/>
              <p:nvPr/>
            </p:nvSpPr>
            <p:spPr>
              <a:xfrm>
                <a:off x="1144080" y="2266920"/>
                <a:ext cx="200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dentif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Rectangle 25"/>
              <p:cNvSpPr/>
              <p:nvPr/>
            </p:nvSpPr>
            <p:spPr>
              <a:xfrm>
                <a:off x="1107720" y="2266920"/>
                <a:ext cx="208188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Group 26"/>
            <p:cNvGrpSpPr/>
            <p:nvPr/>
          </p:nvGrpSpPr>
          <p:grpSpPr>
            <a:xfrm>
              <a:off x="1107720" y="2762640"/>
              <a:ext cx="2081880" cy="609120"/>
              <a:chOff x="1107720" y="2762640"/>
              <a:chExt cx="2081880" cy="609120"/>
            </a:xfrm>
          </p:grpSpPr>
          <p:sp>
            <p:nvSpPr>
              <p:cNvPr id="1133" name="Rectangle 27"/>
              <p:cNvSpPr/>
              <p:nvPr/>
            </p:nvSpPr>
            <p:spPr>
              <a:xfrm>
                <a:off x="1144080" y="2762640"/>
                <a:ext cx="2009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abla de Ptos de entra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Rectangle 28"/>
              <p:cNvSpPr/>
              <p:nvPr/>
            </p:nvSpPr>
            <p:spPr>
              <a:xfrm>
                <a:off x="1107720" y="2762640"/>
                <a:ext cx="20818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Group 29"/>
            <p:cNvGrpSpPr/>
            <p:nvPr/>
          </p:nvGrpSpPr>
          <p:grpSpPr>
            <a:xfrm>
              <a:off x="1107720" y="3371760"/>
              <a:ext cx="2081880" cy="723600"/>
              <a:chOff x="1107720" y="3371760"/>
              <a:chExt cx="2081880" cy="723600"/>
            </a:xfrm>
          </p:grpSpPr>
          <p:sp>
            <p:nvSpPr>
              <p:cNvPr id="1136" name="Rectangle 30"/>
              <p:cNvSpPr/>
              <p:nvPr/>
            </p:nvSpPr>
            <p:spPr>
              <a:xfrm>
                <a:off x="1144080" y="3371760"/>
                <a:ext cx="20091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abla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ferencias exter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Rectangle 31"/>
              <p:cNvSpPr/>
              <p:nvPr/>
            </p:nvSpPr>
            <p:spPr>
              <a:xfrm>
                <a:off x="1107720" y="3371760"/>
                <a:ext cx="2081880" cy="72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Group 32"/>
            <p:cNvGrpSpPr/>
            <p:nvPr/>
          </p:nvGrpSpPr>
          <p:grpSpPr>
            <a:xfrm>
              <a:off x="1107720" y="4095720"/>
              <a:ext cx="2081880" cy="723600"/>
              <a:chOff x="1107720" y="4095720"/>
              <a:chExt cx="2081880" cy="723600"/>
            </a:xfrm>
          </p:grpSpPr>
          <p:sp>
            <p:nvSpPr>
              <p:cNvPr id="1139" name="Rectangle 33"/>
              <p:cNvSpPr/>
              <p:nvPr/>
            </p:nvSpPr>
            <p:spPr>
              <a:xfrm>
                <a:off x="1144080" y="4095720"/>
                <a:ext cx="20091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strucciones de maquinarias y consta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Rectangle 34"/>
              <p:cNvSpPr/>
              <p:nvPr/>
            </p:nvSpPr>
            <p:spPr>
              <a:xfrm>
                <a:off x="1107720" y="4095720"/>
                <a:ext cx="2081880" cy="723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Group 35"/>
            <p:cNvGrpSpPr/>
            <p:nvPr/>
          </p:nvGrpSpPr>
          <p:grpSpPr>
            <a:xfrm>
              <a:off x="1107720" y="4819320"/>
              <a:ext cx="2081880" cy="609120"/>
              <a:chOff x="1107720" y="4819320"/>
              <a:chExt cx="2081880" cy="609120"/>
            </a:xfrm>
          </p:grpSpPr>
          <p:sp>
            <p:nvSpPr>
              <p:cNvPr id="1142" name="Rectangle 36"/>
              <p:cNvSpPr/>
              <p:nvPr/>
            </p:nvSpPr>
            <p:spPr>
              <a:xfrm>
                <a:off x="1144080" y="4819320"/>
                <a:ext cx="2009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sta de rehub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Rectangle 37"/>
              <p:cNvSpPr/>
              <p:nvPr/>
            </p:nvSpPr>
            <p:spPr>
              <a:xfrm>
                <a:off x="1107720" y="4819320"/>
                <a:ext cx="20818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38"/>
            <p:cNvGrpSpPr/>
            <p:nvPr/>
          </p:nvGrpSpPr>
          <p:grpSpPr>
            <a:xfrm>
              <a:off x="1107720" y="5428800"/>
              <a:ext cx="2081880" cy="495360"/>
              <a:chOff x="1107720" y="5428800"/>
              <a:chExt cx="2081880" cy="495360"/>
            </a:xfrm>
          </p:grpSpPr>
          <p:sp>
            <p:nvSpPr>
              <p:cNvPr id="1145" name="Rectangle 39"/>
              <p:cNvSpPr/>
              <p:nvPr/>
            </p:nvSpPr>
            <p:spPr>
              <a:xfrm>
                <a:off x="1144080" y="5428800"/>
                <a:ext cx="200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n del Mód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Rectangle 40"/>
              <p:cNvSpPr/>
              <p:nvPr/>
            </p:nvSpPr>
            <p:spPr>
              <a:xfrm>
                <a:off x="1107720" y="5428800"/>
                <a:ext cx="2081880" cy="495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41"/>
            <p:cNvGrpSpPr/>
            <p:nvPr/>
          </p:nvGrpSpPr>
          <p:grpSpPr>
            <a:xfrm>
              <a:off x="1107720" y="5924520"/>
              <a:ext cx="2081880" cy="476280"/>
              <a:chOff x="1107720" y="5924520"/>
              <a:chExt cx="2081880" cy="476280"/>
            </a:xfrm>
          </p:grpSpPr>
          <p:sp>
            <p:nvSpPr>
              <p:cNvPr id="1148" name="Rectangle 42"/>
              <p:cNvSpPr/>
              <p:nvPr/>
            </p:nvSpPr>
            <p:spPr>
              <a:xfrm>
                <a:off x="1144080" y="5924520"/>
                <a:ext cx="200916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Rectangle 43"/>
              <p:cNvSpPr/>
              <p:nvPr/>
            </p:nvSpPr>
            <p:spPr>
              <a:xfrm>
                <a:off x="1107720" y="5924520"/>
                <a:ext cx="2081880" cy="47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0" name="Rectangle 44"/>
          <p:cNvSpPr/>
          <p:nvPr/>
        </p:nvSpPr>
        <p:spPr>
          <a:xfrm>
            <a:off x="0" y="6902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45"/>
          <p:cNvSpPr/>
          <p:nvPr/>
        </p:nvSpPr>
        <p:spPr>
          <a:xfrm>
            <a:off x="0" y="7512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533520" y="1600200"/>
            <a:ext cx="7848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lac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nlazar procedimientos compilados por separado en el momento en el que se llama por primera vez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2"/>
          <p:cNvSpPr/>
          <p:nvPr/>
        </p:nvSpPr>
        <p:spPr>
          <a:xfrm>
            <a:off x="6400800" y="-2768760"/>
            <a:ext cx="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4"/>
          <p:cNvSpPr/>
          <p:nvPr/>
        </p:nvSpPr>
        <p:spPr>
          <a:xfrm>
            <a:off x="0" y="438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1143000" y="57150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7-17. Enlace dinámico,  (a) Antes de llamar a TIERRA. (b) Después de llamar i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RRA-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Curso Ensamblador  002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rogramando en Assembler Parte1.wmv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5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5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Ventajas de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porciona más control sobre el manejo particular de los requerimientos de hard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Genera módulos ejecutables más pequeños y compacto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Normalmente se ejecutan más rápido que el proceso equivalente codificado en un lenguaje de alto nive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mpilador  v/s Ensamblad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Un lenguaje de alto nivel utiliza un 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compilador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 para traducir el código fuente a lenguaje de máquina (código objet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Un lenguaje de bajo nivel utiliza un 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ensamblador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 para realizar la traducció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ambos niveles, un programa enlazador completa el proceso al convertir el código objeto en lenguaje de máquin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4"/>
          <p:cNvSpPr/>
          <p:nvPr/>
        </p:nvSpPr>
        <p:spPr>
          <a:xfrm>
            <a:off x="395280" y="692280"/>
            <a:ext cx="1081080" cy="64908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395280" y="2205000"/>
            <a:ext cx="1224000" cy="64764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samb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395280" y="4797360"/>
            <a:ext cx="1081080" cy="649440"/>
          </a:xfrm>
          <a:prstGeom prst="flowChartMagneticDisk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la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276720" y="765000"/>
            <a:ext cx="914400" cy="609840"/>
          </a:xfrm>
          <a:prstGeom prst="flowChartDocumen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g.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1476360" y="1052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4716360" y="69228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rea un programa fuente en ensamblador (.A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3708360" y="134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3"/>
          <p:cNvSpPr/>
          <p:nvPr/>
        </p:nvSpPr>
        <p:spPr>
          <a:xfrm>
            <a:off x="3059280" y="2205000"/>
            <a:ext cx="1296720" cy="503280"/>
          </a:xfrm>
          <a:prstGeom prst="flowChartPredefinedProcess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ns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>
            <a:off x="161928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6"/>
          <p:cNvSpPr/>
          <p:nvPr/>
        </p:nvSpPr>
        <p:spPr>
          <a:xfrm>
            <a:off x="539640" y="3357720"/>
            <a:ext cx="1062000" cy="757080"/>
          </a:xfrm>
          <a:prstGeom prst="flowChartMultidocumen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lst</a:t>
            </a:r>
            <a:br>
              <a:rPr sz="1200"/>
            </a:b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crt</a:t>
            </a:r>
            <a:br>
              <a:rPr sz="1200"/>
            </a:b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rog.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8"/>
          <p:cNvSpPr/>
          <p:nvPr/>
        </p:nvSpPr>
        <p:spPr>
          <a:xfrm>
            <a:off x="3276720" y="3429000"/>
            <a:ext cx="914400" cy="609480"/>
          </a:xfrm>
          <a:prstGeom prst="flowChartDocument">
            <a:avLst/>
          </a:prstGeom>
          <a:gradFill rotWithShape="0">
            <a:gsLst>
              <a:gs pos="0">
                <a:srgbClr val="3366cc"/>
              </a:gs>
              <a:gs pos="100000">
                <a:srgbClr val="0a132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rog.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3708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25"/>
          <p:cNvGrpSpPr/>
          <p:nvPr/>
        </p:nvGrpSpPr>
        <p:grpSpPr>
          <a:xfrm>
            <a:off x="1619280" y="2708280"/>
            <a:ext cx="1800360" cy="1008000"/>
            <a:chOff x="1619280" y="2708280"/>
            <a:chExt cx="1800360" cy="1008000"/>
          </a:xfrm>
        </p:grpSpPr>
        <p:sp>
          <p:nvSpPr>
            <p:cNvPr id="658" name="Line 21"/>
            <p:cNvSpPr/>
            <p:nvPr/>
          </p:nvSpPr>
          <p:spPr>
            <a:xfrm>
              <a:off x="3419640" y="2708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2"/>
            <p:cNvSpPr/>
            <p:nvPr/>
          </p:nvSpPr>
          <p:spPr>
            <a:xfrm flipH="1">
              <a:off x="2410920" y="2997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3"/>
            <p:cNvSpPr/>
            <p:nvPr/>
          </p:nvSpPr>
          <p:spPr>
            <a:xfrm>
              <a:off x="2411280" y="299736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4"/>
            <p:cNvSpPr/>
            <p:nvPr/>
          </p:nvSpPr>
          <p:spPr>
            <a:xfrm flipH="1">
              <a:off x="1619280" y="3716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AutoShape 26"/>
          <p:cNvSpPr/>
          <p:nvPr/>
        </p:nvSpPr>
        <p:spPr>
          <a:xfrm>
            <a:off x="2987640" y="4869000"/>
            <a:ext cx="1297080" cy="503280"/>
          </a:xfrm>
          <a:prstGeom prst="flowChartPredefinedProcess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7"/>
          <p:cNvSpPr/>
          <p:nvPr/>
        </p:nvSpPr>
        <p:spPr>
          <a:xfrm>
            <a:off x="1476360" y="51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370836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9"/>
          <p:cNvSpPr/>
          <p:nvPr/>
        </p:nvSpPr>
        <p:spPr>
          <a:xfrm>
            <a:off x="4788000" y="21337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Ensambla el programa fuente, crea un programa objeto (.OB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0"/>
          <p:cNvSpPr/>
          <p:nvPr/>
        </p:nvSpPr>
        <p:spPr>
          <a:xfrm>
            <a:off x="4932360" y="47973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Enlaza el programa objeto, crea un programa ej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31"/>
          <p:cNvSpPr/>
          <p:nvPr/>
        </p:nvSpPr>
        <p:spPr>
          <a:xfrm>
            <a:off x="3708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2"/>
          <p:cNvSpPr/>
          <p:nvPr/>
        </p:nvSpPr>
        <p:spPr>
          <a:xfrm>
            <a:off x="3276720" y="5950080"/>
            <a:ext cx="914400" cy="609480"/>
          </a:xfrm>
          <a:prstGeom prst="flowChartDocument">
            <a:avLst/>
          </a:prstGeom>
          <a:gradFill rotWithShape="0">
            <a:gsLst>
              <a:gs pos="0">
                <a:srgbClr val="003399"/>
              </a:gs>
              <a:gs pos="100000">
                <a:srgbClr val="0025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g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14"/>
          <p:cNvSpPr/>
          <p:nvPr/>
        </p:nvSpPr>
        <p:spPr>
          <a:xfrm>
            <a:off x="2590920" y="838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stencia de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335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ivel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16"/>
          <p:cNvSpPr/>
          <p:nvPr/>
        </p:nvSpPr>
        <p:spPr>
          <a:xfrm>
            <a:off x="2133720" y="16765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24382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8"/>
          <p:cNvSpPr/>
          <p:nvPr/>
        </p:nvSpPr>
        <p:spPr>
          <a:xfrm>
            <a:off x="2743200" y="3352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3962520" y="3200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a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0"/>
          <p:cNvSpPr/>
          <p:nvPr/>
        </p:nvSpPr>
        <p:spPr>
          <a:xfrm>
            <a:off x="4495680" y="35812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6172200" y="2514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m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23"/>
          <p:cNvSpPr/>
          <p:nvPr/>
        </p:nvSpPr>
        <p:spPr>
          <a:xfrm>
            <a:off x="6095880" y="40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4"/>
          <p:cNvSpPr/>
          <p:nvPr/>
        </p:nvSpPr>
        <p:spPr>
          <a:xfrm flipV="1">
            <a:off x="5410080" y="2895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5"/>
          <p:cNvSpPr/>
          <p:nvPr/>
        </p:nvSpPr>
        <p:spPr>
          <a:xfrm>
            <a:off x="5410080" y="3581280"/>
            <a:ext cx="6098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6"/>
          <p:cNvSpPr/>
          <p:nvPr/>
        </p:nvSpPr>
        <p:spPr>
          <a:xfrm>
            <a:off x="3808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ivel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27"/>
          <p:cNvSpPr/>
          <p:nvPr/>
        </p:nvSpPr>
        <p:spPr>
          <a:xfrm>
            <a:off x="1600200" y="4267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8"/>
          <p:cNvSpPr/>
          <p:nvPr/>
        </p:nvSpPr>
        <p:spPr>
          <a:xfrm>
            <a:off x="1981080" y="44956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grama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29"/>
          <p:cNvSpPr/>
          <p:nvPr/>
        </p:nvSpPr>
        <p:spPr>
          <a:xfrm>
            <a:off x="3809880" y="4495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)   Generación de un programa                equivalente en lenguaje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0"/>
          <p:cNvSpPr/>
          <p:nvPr/>
        </p:nvSpPr>
        <p:spPr>
          <a:xfrm>
            <a:off x="3809880" y="5486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) Ejecución del nuevo programa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304920" y="0"/>
            <a:ext cx="830556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3760" rIns="3018600" tIns="914040" bIns="457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en Tiempo de Ejec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0" y="1655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0" y="322272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0560" rIns="3064320" tIns="914040" bIns="45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5105520"/>
            <a:ext cx="91440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: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grama fuente se ha desvan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0" y="243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grama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981080" y="2057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Objeto del usu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2057400" y="2895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sistema o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20574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icro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"/>
          <p:cNvSpPr/>
          <p:nvPr/>
        </p:nvSpPr>
        <p:spPr>
          <a:xfrm>
            <a:off x="1143000" y="30481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5"/>
          <p:cNvSpPr/>
          <p:nvPr/>
        </p:nvSpPr>
        <p:spPr>
          <a:xfrm>
            <a:off x="5334120" y="1523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5562720" y="198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ivel del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548640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quin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548640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icroprogr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9"/>
          <p:cNvSpPr/>
          <p:nvPr/>
        </p:nvSpPr>
        <p:spPr>
          <a:xfrm>
            <a:off x="1143000" y="3048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0"/>
          <p:cNvSpPr/>
          <p:nvPr/>
        </p:nvSpPr>
        <p:spPr>
          <a:xfrm flipV="1">
            <a:off x="1143000" y="228564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609480" y="685800"/>
            <a:ext cx="75438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un lenguaje ensamblado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quel en que cada sentencia produce exactamente una instrucción de máqu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ncia biunív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racterísticas que los distingue de los lenguajes al alto ni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2"/>
          <p:cNvSpPr/>
          <p:nvPr/>
        </p:nvSpPr>
        <p:spPr>
          <a:xfrm>
            <a:off x="3808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enguaje ensamb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304920" y="1752480"/>
            <a:ext cx="373356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) Asigna a las direcciones nombres simbó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) Solo se ejecuta en una familia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943600" y="152388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45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7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86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91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25"/>
          <p:cNvSpPr/>
          <p:nvPr/>
        </p:nvSpPr>
        <p:spPr>
          <a:xfrm>
            <a:off x="6629400" y="152388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6"/>
          <p:cNvSpPr/>
          <p:nvPr/>
        </p:nvSpPr>
        <p:spPr>
          <a:xfrm>
            <a:off x="7165800" y="175248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ra la PDP_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7"/>
          <p:cNvSpPr/>
          <p:nvPr/>
        </p:nvSpPr>
        <p:spPr>
          <a:xfrm>
            <a:off x="5181480" y="533520"/>
            <a:ext cx="3657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enguaje de ma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octal o hexadec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56:06Z</dcterms:created>
  <dc:creator>Marcelo</dc:creator>
  <dc:description/>
  <dc:language>en-US</dc:language>
  <cp:lastModifiedBy>Rossy</cp:lastModifiedBy>
  <dcterms:modified xsi:type="dcterms:W3CDTF">2011-07-19T15:05:49Z</dcterms:modified>
  <cp:revision>17</cp:revision>
  <dc:subject/>
  <dc:title>Presentación de PowerPoint</dc:title>
</cp:coreProperties>
</file>